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hris McKeague" initials="C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6-04-04T09:46:12.027000000" idx="1">
    <p:pos x="4807" y="322"/>
    <p:text>Chris's par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0E84-B3D0-405A-B2B0-24F518F2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3008-D647-4AE1-A5A4-D583F6F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BB47-6016-4C4D-BEC0-47CD276C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3822-E592-4CD5-9268-744A39ED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DA0-CAFF-421B-8EA0-2A5A5656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6342-4F87-44E3-8E8C-BEC089B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B6F3-9025-4E55-BE4A-1AC97EA1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8D2F-4C6C-4174-B655-B5EAF106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3726-9207-4000-9E0B-37162954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16D5-4E8A-48B9-9EE7-BFC10B68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331B-5CB0-4716-B9E2-B5718967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89EA-B1B1-404C-8031-96C14BFE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E4AA-2489-4390-8C23-C65CB314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7267-F2B6-4E95-9D1F-AA99509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2875-8FCF-442A-B14F-B36AC24E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7A94-9A91-4C14-B64C-61343AB2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5E4D-8967-4FD3-8784-4C81FE0A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6AD6-D403-4DFB-9F4B-79FC5A6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0A13-3316-4410-AB1F-F4566415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7A82-9575-4D23-A833-576F8869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68E6-99B3-48AF-8DA1-5CBAFBC5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FFC9-DD9F-4484-9925-6217A549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60CE-CE9E-43F9-A6BD-4A8F2613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0CFF-5FF0-4E1C-8B5F-2B658E9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quz-P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ED8A-8E91-4FA9-BF3A-8D27270E7DB7}" type="slidenum">
              <a:rPr b="0" lang="quz-P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quz-P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D50-A404-4FA0-9C07-6171F29E1850}" type="datetime">
              <a:rPr b="0" lang="quz-PE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quz-P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quz-P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quz-P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90A9-9755-48A3-882C-04E65176B066}" type="datetime">
              <a:rPr b="0" lang="quz-PE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quz-P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quz-P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quz-P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650F-0539-435A-A020-FCF5FC6095AF}" type="slidenum">
              <a:rPr b="0" lang="quz-P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cisco.com/univercd/cc/td/doc/cisintwk/ito_doc/ethernet.pdf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en.wikipedia.org/wiki/Ethernet" TargetMode="External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hyperlink" Target="http://sassenfeld.cs.utep.edu/mit5330/index.htm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www.freesoft.org/CIE/Topics/60.htm" TargetMode="Externa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dfdef6"/>
                </a:solidFill>
                <a:latin typeface="Arial"/>
              </a:rPr>
              <a:t>The Etherne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eam 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delmo Amar</a:t>
            </a:r>
            <a:r>
              <a:rPr b="0" lang="quz-PE" sz="2000" spc="-1" strike="noStrike">
                <a:solidFill>
                  <a:srgbClr val="ffffff"/>
                </a:solidFill>
                <a:latin typeface="Arial"/>
              </a:rPr>
              <a:t>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avid Congre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hris McKea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Joel Schra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thernet Frame Transmis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ull Duplex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No coll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No scheduled retransmi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ly restricted by interframe gap between successive fram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468360" y="4653000"/>
            <a:ext cx="7956360" cy="173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6AC3-81EC-474A-88C2-12A1418795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6080404-9C8B-4DEF-B7B1-2AAE831477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thernet Frame Recep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imilar for both half and full du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verse of Frame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nt and received Frame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190C-4BF1-45EA-AA2B-6C0D294A9A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F2ADC5-3393-4D7C-81CD-E6D54E74D38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thernet Physical lay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thernet devices uses NIC connected to the mother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dicates by the following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1908000" y="3570120"/>
            <a:ext cx="6048720" cy="262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419B-94D7-409A-9D34-7C5E5B1B40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5A2ADE7-3598-441E-8047-2AC4B07055C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The 802.3 Physical Layer Relationship to ISO Mode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hysical layer divided into independent sub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conciliation sub layer and MII  (Media Independent Interf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edia-dependent physical coding sub layer (PC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hysical medium attachment (PMA) sub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edium-dependent interface (MDI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uto-negotiation sub lay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2150-5CF1-49A3-B4A8-485EA4FB36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4965E06-03E6-42AD-9026-71071E972EE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The 802.3 Physical Layer Relationship to ISO Mode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473800" cy="44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432F-6B70-48D8-A91E-7B7236513A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7961B64-CF6B-4677-A129-D49F63C0BC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 Mbps Ethernet 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EEE 802.3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BaseT (Twisted-Pair Eth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Base2 (Thin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Base5 (Thick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D58E-1B3B-4EC3-975A-A1C64C70D8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A1DD1B9-29FA-427D-B43D-244013BF632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0 Mbps Ethernet 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Base-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over 4 w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 wired top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Cat-3 or Cat -5 U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support full or half duplex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m maximum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A hub or switch sits in the middle, has a port for each no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4378-83EF-4A65-8B19-1ADA1FA48F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505888F-05F7-4371-9C96-C11E3CDCB69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0 Mbps Ethernet 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Base-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1763640" y="2133720"/>
            <a:ext cx="5848560" cy="39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5116-A857-4B51-9CF9-EC408E36CC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BA36B57-794D-4762-8A58-A3729D9A34B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 Mbps Ethernet 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Base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Original 10Mbps implementation of Eth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Uses 75 Ω RG 8 coaxial cable, maximum length 50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Bus top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ed 50 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terminators at each e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most ex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FB51-6E25-4284-A564-9ABE926AA3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052A8E-C674-4DC4-92C5-C9B5790C3B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 Mbps Ethernet 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0Base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5000400" cy="44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3049-5EE2-41AA-AA4B-C4BBB8ED63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E4815A-41F3-4EB5-8198-3779EACB99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term 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Ethernet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refers to the family of local-area network (LAN) products covered by the IEEE 802.3 standa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ree data rates are currently defined for operation over optical fibre and twisted-pair c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0 Mbps—10Base-T Ether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00 Mbps—Fast Ether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000 Mbps—Gigabit Ethernet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8A86-3693-4C96-8E4E-ECC48AF583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2C75C3-3AE2-4424-BF30-CCBC61265AA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 Mbps Ethernet 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Base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Uses 50 Ω RG-58 coaxial cable, maximum length 20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Bus top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Uses BNC-T connectors at the end of each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ed 50 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terminators at each e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most ex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3410-2863-42A0-A202-B9BC4B37B7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DE840E-9A31-45CD-B2C8-E5A60E90713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 Mbps Ethernet </a:t>
            </a: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Base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5029200" cy="43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CF2A-02BB-453B-88BC-2883C87FEF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55AEB44-7931-4589-8658-578FB3094B0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00 Mbps Fast Ethernet </a:t>
            </a:r>
            <a:r>
              <a:rPr b="0" lang="en-AU" sz="4000" spc="-1" strike="noStrike">
                <a:solidFill>
                  <a:srgbClr val="dfdef6"/>
                </a:solidFill>
                <a:latin typeface="Arial"/>
              </a:rPr>
              <a:t>Standard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EEE 802.3</a:t>
            </a:r>
            <a:r>
              <a:rPr b="0" lang="en-AU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Base X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Base T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4A5B-AE68-4D80-9BE8-578873DECF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80B6370-8B17-4534-BED5-7ACD90AC4EF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0Base –X Med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wo physical medium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00Base-T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s Cat-5 UTP c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ar shape top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n achieve up to 200Mbps at full du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00Base-F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s two sets of multimode fibre optic cable, one for Tx and one for R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400m half-duplex, 2km full du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8A9D-0F65-49A6-A302-F6B5ECA506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38C98E9-412F-415F-941B-870E6365E9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0Base –T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s Cat-3 U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veloped to allow 10BaseT to be upgraded to 100-Mbps without replacing Cat-3 UTP with Cat-5 UT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Uses all 4 pairs in the cable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imited to half-du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urrently obso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01D3-EDDE-4736-A398-3B9B4C914E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5AB4487-9D26-4DB0-9F1E-70E1D98C4A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Gigabit Eth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EEE 802.3ab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000Bas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ses Cat-5e (enhanced) or Cat-6 U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aximum length 10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EAA2-D689-4AD4-9AF5-6DE646C038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C08ED8B-969C-4C30-B20B-22AFAE12D7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Gigabit Eth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EEE 802.3z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0BaseS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Uses multimode fi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Maximum length 22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0BaseL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Uses long wavelength la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Multimode or single mode fi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On a single-mode fibre it can reach up to 1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0BaseC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nnects short distances, 25m,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bso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6A96-8062-4BED-AE0B-99C188E3C16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FEF5550-2509-4E20-9CCD-3D4957F1C19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Gigabit Eth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88360" cy="398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2F81-1D2E-471C-8352-3C4F3666E0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2F5F46F-D617-4D8E-A00F-2DC0E79D3B4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ummary of Ethernet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508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3733-AB81-481C-BDC9-9D71784E6B9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F5CE9CA-9AD8-4B67-913F-47AE8D9959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10 Gigabit Eth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Very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Originally specified by a supplementary standard, IEEE 802.3a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Now, IEEE 802.3-2005 standard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use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fibre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6B06-D538-4D8D-A815-DAECAD8E41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0A41606-8F46-4E3C-A2F5-4FEFEAA336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s easy to understand, implement, manage, and maint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lows low-cost network implement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vides extensive topological flexibility for network instal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uarantees successful interconnection and operation of standards-compliant products, regardless of manufacturer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8E31-9785-45AC-806B-745D55E4D4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39F1A33-4E3D-4934-B099-B3810CBE354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10 Gigabit Eth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999560" cy="471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56AD-C0BB-4DBA-A077-03B23E1CEC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23B215-F25C-4C85-B7FF-8908B10C89A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ummary of Ethernet 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02476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B1CB-B7D6-4C4E-BA2D-54DFDEA2092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23291F-7C0D-4A51-B82F-6431DBF9826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System Consider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ponent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etwork Upg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ultiple Spe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ink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57F6-E306-4F64-8970-64F542DF57F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26E99C-0EAA-4439-B521-6F2AABC849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ef6"/>
                </a:solidFill>
                <a:latin typeface="Arial"/>
              </a:rPr>
              <a:t>Component Selection &amp; </a:t>
            </a:r>
            <a:br>
              <a:rPr sz="4000"/>
            </a:br>
            <a:r>
              <a:rPr b="0" lang="en-AU" sz="4000" spc="-1" strike="noStrike">
                <a:solidFill>
                  <a:srgbClr val="dfdef6"/>
                </a:solidFill>
                <a:latin typeface="Arial"/>
              </a:rPr>
              <a:t>Network Upgrad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sure that all connected components are 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uto-negotiation almost eliminates the need to configure connected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uto-negotiation can be used to provide backwards compatibility, hence allowing gradual upgrades of network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973E-2781-4BD5-A2A2-462606B59E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DFF6E7C-29A9-4349-BCBE-A5561F0071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Multiple Speed Networ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4020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vide greater efficiency and flexibility in the architectur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vide high speed backbone to ensure all clients receive best possible connection to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3630600" cy="42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A8EB-0104-4B62-8F27-B0545A95E7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1584951-BD4C-406F-9993-78835A4A8D0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Link Aggreg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other way of achieving flexibility and efficiency in a network architecture is to use link aggregation to provide 1 virtual connection over multiple physical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only used with internet connections to provide a better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n also be used to provide some redundancy (i.e. 2 connections provided by different wholesal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BBCC-045B-4631-A989-929AFB7A63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28FE9B1-FB58-41E1-AA89-AD085C31B45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4291-4BF4-41FB-8898-9B218DF53E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FD2508B-C9A9-4B18-89F8-2D87FAC4ED1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Behrouz Forouzan, 2004, Data Communications and Networking, 3</a:t>
            </a:r>
            <a:r>
              <a:rPr b="0" lang="en-AU" sz="1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 Edition, McGraw-Hill, NY,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arker Malcolm, Computer Networks, Version 2, North Sydney College of TAFE, 2000, NSW, Austral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Gilbert Held, 1996, Understanding Data Communications, 5</a:t>
            </a:r>
            <a:r>
              <a:rPr b="0" lang="en-AU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 Edition, Sams Publishing, IN,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thernet Technologies CI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http://www.cisco.com/univercd/cc/td/doc/cisintwk/ito_doc/ethernet.pd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thernet, Wikipedia, the free encyclopae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http://en.wikipedia.org/wiki/Ether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. Song Xing, Fall 2004, CIS 485 Local Area Networks notes, Department of Information Systems, California State University, LA, CA,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Rolfe Sassenfeld, Spring 2006, MIT 5330 Computer Networks and Data Communication, class notes, Computer Science Department, The University of Texas at El Paso, TX,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600" spc="-1" strike="noStrike" u="sng">
                <a:solidFill>
                  <a:srgbClr val="9999ff"/>
                </a:solidFill>
                <a:uFillTx/>
                <a:latin typeface="Arial"/>
                <a:hlinkClick r:id="rId10"/>
              </a:rPr>
              <a:t>http://sassenfeld.cs.utep.edu/mit5330/index.htm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nnected: an Internet Encyclopaedia, Eth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600" spc="-1" strike="noStrike" u="sng">
                <a:solidFill>
                  <a:srgbClr val="9999ff"/>
                </a:solidFill>
                <a:uFillTx/>
                <a:latin typeface="Arial"/>
                <a:hlinkClick r:id="rId12"/>
              </a:rPr>
              <a:t>http://www.freesoft.org/CIE/Topics/60.htm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ECE8-D761-4C17-B7B1-3FDF1E5D07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6630670-EEC2-459E-BDFE-38EF8C6720B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opologies and Structu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basic interconnection structures or network building bloc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oint-to-Point Interconn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axial Bus Topolo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r-Connected Topology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3168360" cy="4982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2484360" y="3789360"/>
            <a:ext cx="2158920" cy="973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2556000" y="5157720"/>
            <a:ext cx="2016000" cy="9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327B-BFD4-469A-8B27-D2B50EC00C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68B9081-DFD3-4C6D-948E-43C7F5DFD0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EEE802.3 Logical Relationship to the ISO Reference Mode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6769440" cy="31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7122-0437-43CC-B012-C663DA9907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EA1D5D2-5C03-46B4-A345-D584B36F22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ef6"/>
                </a:solidFill>
                <a:latin typeface="Arial"/>
              </a:rPr>
              <a:t>Basic Data Communication between MAC and Physical Layer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257800" cy="39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0679-44DC-40B2-A083-F8C62AFAF3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2D347C-8868-4FF5-B3E5-CD5EFE0E609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The Ethernet MAC Sublay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ata encapsulation and media access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pics pres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thernet frame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rame trans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rame re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313E-CEF9-44BB-B0BD-F6BD6616DE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C2103B-72FD-4AEF-827B-3DCF470CFBA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thernet Frame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fined by IEEE 802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wp1020640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066160" cy="353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E47B-922E-4EF5-8495-6DDAE26FAB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9F36597-1BB5-4138-A004-B314B8BC5CF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thernet Frame Transmis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alf Duplex Transmission - CSMA/CD Access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rrier Sense – listen for traffic on medi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ultiple Access – transmitting enabled on trafficless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llision Detect – transmitting stations capable of detecting coll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am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BCC3-6E0E-4D66-A494-1BE9E88FBA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6EDD0E4-8436-456E-9186-D66F94CB260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2:08:41Z</dcterms:created>
  <dc:creator>Ronaldo Amarö</dc:creator>
  <dc:description/>
  <dc:language>en-US</dc:language>
  <cp:lastModifiedBy>Chris McKeague</cp:lastModifiedBy>
  <dcterms:modified xsi:type="dcterms:W3CDTF">2006-04-05T03:51:57Z</dcterms:modified>
  <cp:revision>18</cp:revision>
  <dc:subject/>
  <dc:title>The Eth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