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2.wmf" ContentType="image/x-wmf"/>
  <Override PartName="/ppt/media/image8.png" ContentType="image/png"/>
  <Override PartName="/ppt/media/image18.png" ContentType="image/png"/>
  <Override PartName="/ppt/media/image17.png" ContentType="image/png"/>
  <Override PartName="/ppt/media/image16.png" ContentType="image/png"/>
  <Override PartName="/ppt/media/image14.wmf" ContentType="image/x-wmf"/>
  <Override PartName="/ppt/media/image1.png" ContentType="image/png"/>
  <Override PartName="/ppt/media/image2.png" ContentType="image/png"/>
  <Override PartName="/ppt/media/image4.wmf" ContentType="image/x-wmf"/>
  <Override PartName="/ppt/media/image10.png" ContentType="image/png"/>
  <Override PartName="/ppt/media/image5.wmf" ContentType="image/x-wmf"/>
  <Override PartName="/ppt/media/image6.wmf" ContentType="image/x-wmf"/>
  <Override PartName="/ppt/media/image15.wmf" ContentType="image/x-wmf"/>
  <Override PartName="/ppt/media/image7.png" ContentType="image/png"/>
  <Override PartName="/ppt/media/image11.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B287-D48B-4447-B7F0-BF8011F4E2E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reating large and complex networks using BSS's and DS's leads us to the next level of hierarchy, the Extended Service Set or ESS. The beauty of the ESS is the entire network looks like an independent basic service set to the Logical Link Control layer (LLC). This means that stations within the ESS can communicate or even move between BSS′s transparently to the LL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cell broadcast area is around a single AP, each cell uses a different set of frequencies between the mobile station and the 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mobile station moves from one AP coverage area to another without interruption in service or loss in connectivity loss of connectivity is called “roam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he radio-based standards operate within the 2.4 GHz </a:t>
            </a:r>
            <a:r>
              <a:rPr b="0" lang="en-AU" sz="1000" spc="-1" strike="noStrike">
                <a:solidFill>
                  <a:srgbClr val="000000"/>
                </a:solidFill>
                <a:latin typeface="Arial"/>
                <a:ea typeface="宋体"/>
              </a:rPr>
              <a:t>ISM </a:t>
            </a:r>
            <a:r>
              <a:rPr b="0" lang="en-US" sz="1000" spc="-1" strike="noStrike">
                <a:solidFill>
                  <a:srgbClr val="000000"/>
                </a:solidFill>
                <a:latin typeface="Arial"/>
                <a:ea typeface="宋体"/>
              </a:rPr>
              <a:t>band. These frequency bands are recognized by international regulatory agencies radio operations. As such, 802.11-based products do not require user licensing or special train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pread-spectrum techniques, in addition to satisfying regulatory requirements, increase reliability, boost throughput, and allow many unrelated products to share the spectrum without explicit cooperation and with minimal interferen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he original 802.11 wireless standard defines data rates of 1 Mbps and 2 Mbps via radio waves using frequency hopping spread spectrum (FHSS) or direct sequence spread spectrum (DSSS). It is important to note that FHSS and DSSS are fundamentally different signaling mechanisms and will not interoperate with one anothe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Using the frequency hopping technique, the 2.4 GHz band is divided into 75 1-MHz subchannels. The sender and receiver agree on a hopping pattern, and data is sent over a sequence of the subchannels. Each conversation within the 802.11 network occurs over a different hopping pattern, and the patterns are designed to minimize the chance of two senders using the same subchannel simultaneous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FHSS techniques allow for a relatively simple radio design, but are limited to speeds of no higher than 2 Mbps. This limitation is driven primarily by FCC (Federal Communications Commission USA) regulations that restrict subchannel bandwidth to 1 MHz. These regulations force FHSS systems to spread their usage across the entire 2.4 GHz band, meaning they must hop often, which leads to a high amount of hopping overhea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In contrast, the direct sequence signaling technique divides the 2.4 GHz band into 14 22-MHz channels. Adjacent channels overlap one another partially, with three of the 14 being completely non-overlapping. Data is sent across one of these 22 MHz channels without hopping to other channe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宋体"/>
              </a:rPr>
              <a:t>To compensate for noise on a given channel, a technique called “chipping” is used. Each bit of user data is converted into a series of redundant bit patterns called “chips.” The inherent redundancy of each chip combined with spreading the signal across the 22 MHz channel provides for a form of error checking and correction; even if part of the signal is damaged, it can still be recovered in many cases, minimizing the need for retransmissions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CSMA/CA+ACK works as follows. A station wishing to transmit senses the air, and, if no activity is detected, the station waits an additional, randomly selected period of time and then transmits if the medium is still free. If the packet is received intact, the receiving station issues an ACK frame that, once successfully received by the sender, completes the process. If the ACK frame is not detected by the sending station, either because the original data packet was not received intact or the ACK was not received intact, a collision is assumed to have occurred and the data packet is transmitted again after waiting another random amount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SMA/CA thus provides a way of sharing access over the air. This explicit ACK mechanism also handles interference and other radio related problems very effectively. However, it does add some overhead to 802.11 that 802.3 does not have, so that an 802.11 LAN will always have slower performance than an equivalent Ethernet LA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other MAC-layer problem specific to wireless is the “hidden node” issue, in which two stations on opposite sides of an access point can both “hear” activity from an access point, but not from each other, usually due to distance or an ob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o solve this problem, 802.11 specifies an optional Request to Send/Clear to Send (RTS/CTS) protocol at the MAC layer. When this feature is in use, a sending station transmits an RTS and waits for the access point to reply with a CTS. Since all stations in the network can hear the access point, the CTS causes them to delay any intended transmissions, allowing the sending station to transmit and receive a packet acknowledgment without any chance of coll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ince RTS/CTS adds additional overhead to the network by temporarily reserving the medium, it is typically used only on the largest-sized packets, for which retransmission would be expensive from a bandwidth stand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802.11 family currently includes six over-the-air modulation techniques that all use the same protocol. The most popular (and prolific) techniques are those defined by the b, a, and g amendments to the original standard; security was originally included and was later enhanced via the 802.11i amendment. Other standards in the family (c–f, h–j, n) are service enhancements and extensions or corrections to previous specifications. 802.11b was the first widely accepted wireless networking standard, followed (somewhat counterintuitively) by 802.11a and 802.11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ＭＳ Ｐゴシック"/>
              </a:rPr>
              <a:t>The term 802.11x is also used to denote this set of standards and is not to be mistaken for any one of its elements. There is no single 802.11x standard. The term </a:t>
            </a:r>
            <a:r>
              <a:rPr b="0" i="1" lang="en-AU" sz="1200" spc="-1" strike="noStrike">
                <a:solidFill>
                  <a:srgbClr val="000000"/>
                </a:solidFill>
                <a:latin typeface="Arial"/>
                <a:ea typeface="ＭＳ Ｐゴシック"/>
              </a:rPr>
              <a:t>IEEE 802.11</a:t>
            </a:r>
            <a:r>
              <a:rPr b="0" lang="en-AU" sz="1200" spc="-1" strike="noStrike">
                <a:solidFill>
                  <a:srgbClr val="000000"/>
                </a:solidFill>
                <a:latin typeface="Arial"/>
                <a:ea typeface="ＭＳ Ｐゴシック"/>
              </a:rPr>
              <a:t> is also used to refer to the original 802.11, which is now sometimes called "802.11leg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most widely used standard and the first to become popular, IEEE802.11b has a rate speed up to 11Mbps although actual throughput shared by all devices is only half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es in the 2.4GHz band where all NICs and APs operate at this frequency, therefore throughput does not fall sharply with distance as it does with 802.11a  therefore it requiere fewer access points for coverage of larg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s signal range is best and not easly obstructed due to its low frequ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not interoperable with 802.11a because 802.11a and 802.11b uses different frequ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are 14 channels available in the 2.4GHz band however there are only 3 non-overlapping channels, therefore it support fewer simultaneous users and interfere with each other reducing each user’s through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a larger 3D building its imposible to avoid acces points conflicts hence 802.11b is better served for the home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ow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s fastest maximums speed up to 54Mbps, operates in the 5Ghz b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l products that adhere to this standard are considered “WiFi Cer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s eight available non-overlapping channels and may offer 14 in the future, therefore it support more simultaneous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orter range than 802.11b due to its higher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 interoperable with 802.11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igher cost and mostly used in the business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perates in the lower 2.4GHz band therefore throughput of 802.11g falls of more slowly than 802.11a through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aches a maximum speed up to 54Mpbs and its compatible with 802.11b because both standard use the same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has more improved security enhancements over 802.11 and supports more simultaneous 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ignal range is best and is not easily obstru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 channels available in the 2.4GHz band with only three non-overlaping channels, appliances may interfere on the unregulated signal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ore expensive than 802.11b</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hared static keys means that a large volume of traffic is encrypted with the same key</a:t>
            </a:r>
            <a:endParaRPr b="0" lang="en-US" sz="1300" spc="-1" strike="noStrike">
              <a:solidFill>
                <a:srgbClr val="000000"/>
              </a:solidFill>
              <a:latin typeface="Arial"/>
            </a:endParaRPr>
          </a:p>
          <a:p>
            <a:pPr lvl="1" marL="457200" indent="0">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ith so much traffic generated with one unchanging key, hackers can crack the key by collecting data for a few days</a:t>
            </a:r>
            <a:endParaRPr b="0" lang="en-US" sz="1300" spc="-1" strike="noStrike">
              <a:solidFill>
                <a:srgbClr val="000000"/>
              </a:solidFill>
              <a:latin typeface="Arial"/>
            </a:endParaRPr>
          </a:p>
          <a:p>
            <a:pPr lvl="1" marL="457200" indent="0">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ce the key is cracked, the attacker can read all messages and send attack messages into the network without going through a firewall filter</a:t>
            </a:r>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mporary Key Integrity Protocol (TKIP) and Exensible Authentication Portocol (EAP), features from IEEE802.11i standard  is introduced for products build in 2002 and 2003, it actually acts as an upgrade of WEP because WPA is fully compatible with W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luetooth is the name given to a new technology standard using short-range radio links, intended to replace the cable(s) connecting portable and/or fixed electronic devices. The standard defines a uniform structure for a wide range of devices to communicate with each other, with minimal user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luetooth uses Frequency Hop Spread Spectrum (FHSS) to avoid any interference. A Bluetooth channel is divided into time slots each 625 micro second in length. The devices hop through these timeslots making 1600 hops per second. This trades bandwidth efficiency for reliability, integrity and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ＭＳ Ｐゴシック"/>
              </a:rPr>
              <a:t>Bluetooth radios operate in the unlicensed ISM band at 2.4 Gigahertz using 79 channels between 2.402 GHz to 2.480 GHz. The range for Bluetooth communication is 10cm to10 meters with a power consumption of 0dBm (1mW). This distance can be increased to 100 meters by amplifying the power to 20dBm. The Bluetooth radio system is optimized for mobility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ＭＳ Ｐゴシック"/>
              </a:rPr>
              <a:t>Bluetooth communication </a:t>
            </a:r>
            <a:r>
              <a:rPr b="0" lang="en-US" sz="1200" spc="-1" strike="noStrike">
                <a:solidFill>
                  <a:srgbClr val="000000"/>
                </a:solidFill>
                <a:latin typeface="Arial"/>
                <a:ea typeface="宋体"/>
              </a:rPr>
              <a:t>occurs between a master radio and a slave radio. Bluetooth radios are symmetric in that the same device may operate as a master and also the slave. Each radio has a 48-bit unique device address (BD_ADDR) that is fix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wo or more radio devices together form ad-hoc networks called piconets. All units within a piconet share the same channel. Each piconet has one master device and one or more slaves. There may be up to seven active slaves at a time within a piconet. Thus, each active device within a piconet is identifiable by a 3-bit active device address. Inactive slaves in unconnected modes may continue to reside within the pico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A master is the only one that may initiate a Bluetooth communication link. However, once a link is established, the slave may request a master/slave switch to become the master. Slaves are not allowed to talk to each other directly. All communication occurs within the slave and the master. Slaves within a piconet must also synchronize their internal clocks and frequency hops with that of the master. Each piconet uses a different frequency hopping sequence. Radio devices used Time Division Multiplexing (TDM). A master device in a piconet transmits on even numbered slots and the slaves may transmit on odd numbered slots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hough WPAN implies a reach of only a few meters, 30 feet in the case of ZigBee, the network will have several layers, so designed as to enable intrapersonal communication within the network, connection to a network of higher level and ultimately an uplink to the Web. The ZigBee Standard has evolved standardized sets of solutions, called ‘layers'. These layers facilitate the features that make ZigBee very attractive: low cost, easy implementation, reliable data transfer, short-range operations, very low power consumption and adequate security features. </a:t>
            </a:r>
            <a:r>
              <a:rPr b="1" lang="en-US" sz="1000" spc="-1" strike="noStrike">
                <a:solidFill>
                  <a:srgbClr val="000000"/>
                </a:solidFill>
                <a:latin typeface="Arial"/>
                <a:ea typeface="宋体"/>
              </a:rPr>
              <a:t>1. Network and Application Support layer</a:t>
            </a:r>
            <a:r>
              <a:rPr b="0" lang="en-US" sz="1000" spc="-1" strike="noStrike">
                <a:solidFill>
                  <a:srgbClr val="000000"/>
                </a:solidFill>
                <a:latin typeface="Arial"/>
                <a:ea typeface="宋体"/>
              </a:rPr>
              <a:t> </a:t>
            </a:r>
            <a:r>
              <a:rPr b="1" lang="en-US" sz="1000" spc="-1" strike="noStrike">
                <a:solidFill>
                  <a:srgbClr val="000000"/>
                </a:solidFill>
                <a:latin typeface="Arial"/>
                <a:ea typeface="宋体"/>
              </a:rPr>
              <a:t>:</a:t>
            </a:r>
            <a:r>
              <a:rPr b="0" lang="en-US" sz="1000" spc="-1" strike="noStrike">
                <a:solidFill>
                  <a:srgbClr val="000000"/>
                </a:solidFill>
                <a:latin typeface="Arial"/>
                <a:ea typeface="宋体"/>
              </a:rPr>
              <a:t> The network layer permits growth of network sans high power transmitters. This layer can handle huge numbers of nodes. This level in the ZigBee architecture includes the ZigBee Device Object (ZDO), user-defined application profile(s) and the Application Support (APS) sub-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he APS sub-layer's responsibilities include maintenance of tables that enable matching between two devices and communication among them, and also discovery, the aspect that identifies other devices that operate in the operating space of any dev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he responsibility of determining the nature of the device (Coordinator / FFD or RFD) in the network, commencing and replying to binding requests and ensuring a secure relationship between devices rests with the ZDO (Zigbee Define Object). The user-defined application refers to the end device that conforms to the ZigBee Standa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2. Physical (PHY) layer : </a:t>
            </a:r>
            <a:r>
              <a:rPr b="0" lang="en-US" sz="1000" spc="-1" strike="noStrike">
                <a:solidFill>
                  <a:srgbClr val="000000"/>
                </a:solidFill>
                <a:latin typeface="Arial"/>
                <a:ea typeface="宋体"/>
              </a:rPr>
              <a:t>The IEEE802.15.4 PHY physical layer accommodates high levels of integration by using direct sequence to permit simplicity in the analog circuitry and enable cheaper implement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3. Media access control (MAC) layer :</a:t>
            </a:r>
            <a:r>
              <a:rPr b="0" lang="en-US" sz="1000" spc="-1" strike="noStrike">
                <a:solidFill>
                  <a:srgbClr val="000000"/>
                </a:solidFill>
                <a:latin typeface="Arial"/>
                <a:ea typeface="宋体"/>
              </a:rPr>
              <a:t> The IEEE802.15.4 MAC media access control layer permits use of several topologies without introducing complexity and is meant to work with large numbers of devices.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DA Personal digital assi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tends the wired LAN services to open areas unable to install a wired connection such as campus or open areas for example the university campus to be accessible at any point to connect to the LAN without going to the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if the cost of the wired LAN installation is too expensive and not fea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ands above 30MHz are line of sight w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ANs operates in an unlicensed radio bands known as </a:t>
            </a:r>
            <a:r>
              <a:rPr b="0" lang="en-AU" sz="1200" spc="-1" strike="noStrike">
                <a:solidFill>
                  <a:srgbClr val="000000"/>
                </a:solidFill>
                <a:latin typeface="Arial"/>
                <a:ea typeface="宋体"/>
              </a:rPr>
              <a:t>Industrial, Scientific and Medical (ISM</a:t>
            </a:r>
            <a:r>
              <a:rPr b="0" lang="en-AU" sz="1200" spc="-1" strike="noStrike">
                <a:solidFill>
                  <a:srgbClr val="000000"/>
                </a:solidFill>
                <a:latin typeface="Arial"/>
              </a:rPr>
              <a:t> ) band which does not require licences; the requirement  of licences will make WLAN an uneconomical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gulators required that WLAN must use Spread Spectrum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ayleigh fading occurs when the difference in path length of the same signal arriving along different paths is a multiple of half the wavelenght, this causes the signal to be almost completely cancel out at the rece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s may bounce off floors or buildings, interfering with direct signals and even cancel out signals opposite in phase. In television, this happens in large cities, where TV signals bounce off buildings producing  “ghosting” in which faint images appear slightly displaced from the original. In data transmission, these ghosts produce errors garbled noise or interference for example the cracking noise in mobile ph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lden zone is the High MHz range to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a catch 22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gher frequencies, there is more available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ower frequencies, signals propagate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are high enough for there to be large total bandwidth so there is bandwidth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are low enough to allow fairly good propagation characteristics, higher frequencies are prone to interference and atten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need to take the most advantage of this situation, spectrum in the Golden Zone is limited and very expensive therefore there is a problem regarding the use of bandwidth to increase data rate for this reason the maximum data rate in WLAN is not more than 100Mbp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NIC a card that functions as a transce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P is an Ethernet port plus a tranceiver, connected to the wired network infraestructure and a set of wireless end stations, acts a a bridge between wired and wireless LAN and perform basic routing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ntennae are usually Omni directional but can be also directional on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A BSS that stands alone and is not connected to a base is called an Independent Basic Service Set (IBSS) or is referred to as an Ad-Hoc Network. An ad-hoc network is a network where stations communicate only peer to peer. There is no base and no one gives permission to talk. Mostly these networks are spontaneous and can be set up rapidly. Ad-Hoc or IBSS networks are characteristically limited both temporally and spati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宋体"/>
              </a:rPr>
              <a:t>When BSS's are interconnected the network becomes one with infrastructure. 802.11 infrastructure has several elements. Two or more BSS's are interconnected using a Distribution System or DS. This concept of DS increases network coverage. Each BSS becomes a component of an extended, larger network. Entry to the DS is accomplished with the use of Access Points (AP). An access point is a station, thus addressable. So, data moves between the BSS and the DS with the help of these access poi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60957-17D3-4238-A173-237FCA09B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2D63C-9D9B-446E-9E5E-5F853FB1C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30FAB-501D-4728-8ACA-1C039B54E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4528E-2E5F-4B37-8993-6B0201431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43CD4-8E7F-45EF-8434-8DB9A11D6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00D93-805A-40CA-A984-A869E07EB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5D7A7-2EF7-40E5-8AED-E2034BE5B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DAEF8-60C4-47A6-91D5-612540064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D3E6C-F08B-44C9-AB31-A72EA3D9E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64B2B-0E02-4F8B-92AA-E452B958A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3E3D6-5F23-4968-B045-7C64CA146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7FEE1-B539-47DC-A3A7-5D6859390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5EB6-5429-4E5F-8674-CA5E5766F701}"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FD6A-A8D8-4A45-8130-6E93F2F6AD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image" Target="../media/image5.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171360"/>
            <a:ext cx="9144000" cy="6858000"/>
          </a:xfrm>
          <a:prstGeom prst="rect">
            <a:avLst/>
          </a:prstGeom>
          <a:ln w="0">
            <a:noFill/>
          </a:ln>
        </p:spPr>
      </p:pic>
      <p:sp>
        <p:nvSpPr>
          <p:cNvPr id="49" name="PlaceHolder 1"/>
          <p:cNvSpPr>
            <a:spLocks noGrp="1"/>
          </p:cNvSpPr>
          <p:nvPr>
            <p:ph type="title"/>
          </p:nvPr>
        </p:nvSpPr>
        <p:spPr>
          <a:xfrm>
            <a:off x="826920" y="1483920"/>
            <a:ext cx="7772400" cy="139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Arial"/>
              </a:rPr>
              <a:t>Wireless LAN</a:t>
            </a:r>
            <a:endParaRPr b="0" lang="en-US" sz="5400" spc="-1" strike="noStrike">
              <a:solidFill>
                <a:srgbClr val="000000"/>
              </a:solidFill>
              <a:latin typeface="Arial"/>
            </a:endParaRPr>
          </a:p>
        </p:txBody>
      </p:sp>
      <p:sp>
        <p:nvSpPr>
          <p:cNvPr id="50" name="PlaceHolder 2"/>
          <p:cNvSpPr>
            <a:spLocks noGrp="1"/>
          </p:cNvSpPr>
          <p:nvPr>
            <p:ph type="subTitle"/>
          </p:nvPr>
        </p:nvSpPr>
        <p:spPr>
          <a:xfrm>
            <a:off x="684360" y="4005360"/>
            <a:ext cx="6400800" cy="17524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SMA A-Divis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delmo Amar</a:t>
            </a:r>
            <a:r>
              <a:rPr b="0" lang="quz-PE" sz="2000" spc="-1" strike="noStrike">
                <a:solidFill>
                  <a:srgbClr val="000000"/>
                </a:solidFill>
                <a:latin typeface="Arial"/>
              </a:rPr>
              <a:t>ö</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avid Congrev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ris McKeagu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Joel Schrad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12D4BEC-EBC7-41D7-8082-C2063E769360}" type="slidenum">
              <a:t>1</a:t>
            </a:fld>
          </a:p>
        </p:txBody>
      </p:sp>
      <p:sp>
        <p:nvSpPr>
          <p:cNvPr id="5" name="PlaceHolder 4"/>
          <p:cNvSpPr>
            <a:spLocks noGrp="1"/>
          </p:cNvSpPr>
          <p:nvPr>
            <p:ph type="dt" idx="1"/>
          </p:nvPr>
        </p:nvSpPr>
        <p:spPr/>
        <p:txBody>
          <a:bodyPr/>
          <a:p>
            <a:fld id="{ACA1D042-FCDE-4F93-B865-F9F91D5AEA6D}"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84000" y="274320"/>
            <a:ext cx="6202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EEE 802.11 architecture</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ed Service Set (ES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level of hierarchy of B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 access points provide a larger service ar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s like an independent BSS set to the LLC layer</a:t>
            </a:r>
            <a:endParaRPr b="0" lang="en-US" sz="2000" spc="-1" strike="noStrike">
              <a:solidFill>
                <a:srgbClr val="000000"/>
              </a:solidFill>
              <a:latin typeface="Arial"/>
            </a:endParaRPr>
          </a:p>
        </p:txBody>
      </p:sp>
      <p:pic>
        <p:nvPicPr>
          <p:cNvPr id="92" name="" descr=""/>
          <p:cNvPicPr/>
          <p:nvPr/>
        </p:nvPicPr>
        <p:blipFill>
          <a:blip r:embed="rId2"/>
          <a:stretch/>
        </p:blipFill>
        <p:spPr>
          <a:xfrm>
            <a:off x="755640" y="3357720"/>
            <a:ext cx="8153280" cy="3311280"/>
          </a:xfrm>
          <a:prstGeom prst="rect">
            <a:avLst/>
          </a:prstGeom>
          <a:ln w="0">
            <a:noFill/>
          </a:ln>
        </p:spPr>
      </p:pic>
      <p:sp>
        <p:nvSpPr>
          <p:cNvPr id="4" name="PlaceHolder 3"/>
          <p:cNvSpPr>
            <a:spLocks noGrp="1"/>
          </p:cNvSpPr>
          <p:nvPr>
            <p:ph type="sldNum" idx="3"/>
          </p:nvPr>
        </p:nvSpPr>
        <p:spPr/>
        <p:txBody>
          <a:bodyPr/>
          <a:p>
            <a:fld id="{69A82842-12DE-4308-BDC9-B4A8BEF77A2B}" type="slidenum">
              <a:t>10</a:t>
            </a:fld>
          </a:p>
        </p:txBody>
      </p:sp>
      <p:sp>
        <p:nvSpPr>
          <p:cNvPr id="5" name="PlaceHolder 4"/>
          <p:cNvSpPr>
            <a:spLocks noGrp="1"/>
          </p:cNvSpPr>
          <p:nvPr>
            <p:ph type="dt" idx="1"/>
          </p:nvPr>
        </p:nvSpPr>
        <p:spPr/>
        <p:txBody>
          <a:bodyPr/>
          <a:p>
            <a:fld id="{15AE71F3-9DD4-4421-A5F7-C29945483578}"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EEE 802.11 architecture</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ultiple-Cell Wireless LAN</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SS with two or more AP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mobile station moves from one AP coverage area to another without loss of connectivit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so called “roam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alogous to cellular phone transmission</a:t>
            </a:r>
            <a:endParaRPr b="0" lang="en-US" sz="1800" spc="-1" strike="noStrike">
              <a:solidFill>
                <a:srgbClr val="000000"/>
              </a:solidFill>
              <a:latin typeface="Arial"/>
            </a:endParaRPr>
          </a:p>
        </p:txBody>
      </p:sp>
      <p:pic>
        <p:nvPicPr>
          <p:cNvPr id="95" name="" descr=""/>
          <p:cNvPicPr/>
          <p:nvPr/>
        </p:nvPicPr>
        <p:blipFill>
          <a:blip r:embed="rId2"/>
          <a:stretch/>
        </p:blipFill>
        <p:spPr>
          <a:xfrm>
            <a:off x="611280" y="3789360"/>
            <a:ext cx="8281800" cy="3068640"/>
          </a:xfrm>
          <a:prstGeom prst="rect">
            <a:avLst/>
          </a:prstGeom>
          <a:ln w="0">
            <a:noFill/>
          </a:ln>
        </p:spPr>
      </p:pic>
      <p:sp>
        <p:nvSpPr>
          <p:cNvPr id="4" name="PlaceHolder 3"/>
          <p:cNvSpPr>
            <a:spLocks noGrp="1"/>
          </p:cNvSpPr>
          <p:nvPr>
            <p:ph type="sldNum" idx="3"/>
          </p:nvPr>
        </p:nvSpPr>
        <p:spPr/>
        <p:txBody>
          <a:bodyPr/>
          <a:p>
            <a:fld id="{027C0A72-4240-4483-9CD4-1CCFB40970BB}" type="slidenum">
              <a:t>11</a:t>
            </a:fld>
          </a:p>
        </p:txBody>
      </p:sp>
      <p:sp>
        <p:nvSpPr>
          <p:cNvPr id="5" name="PlaceHolder 4"/>
          <p:cNvSpPr>
            <a:spLocks noGrp="1"/>
          </p:cNvSpPr>
          <p:nvPr>
            <p:ph type="dt" idx="1"/>
          </p:nvPr>
        </p:nvSpPr>
        <p:spPr/>
        <p:txBody>
          <a:bodyPr/>
          <a:p>
            <a:fld id="{D910B271-FE09-4ED1-83A7-6BB6F939AAEA}"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84000" y="274320"/>
            <a:ext cx="6202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mission and Media Access Control </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EEE 802.11 operates within the 2.4GHz </a:t>
            </a:r>
            <a:r>
              <a:rPr b="0" lang="en-AU" sz="3200" spc="-1" strike="noStrike">
                <a:solidFill>
                  <a:srgbClr val="000000"/>
                </a:solidFill>
                <a:latin typeface="Arial"/>
                <a:ea typeface="宋体"/>
              </a:rPr>
              <a:t>ISM </a:t>
            </a:r>
            <a:r>
              <a:rPr b="0" lang="en-AU" sz="3200" spc="-1" strike="noStrike">
                <a:solidFill>
                  <a:srgbClr val="000000"/>
                </a:solidFill>
                <a:latin typeface="Arial"/>
              </a:rPr>
              <a:t>ban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tations and their APs share a single chann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station or AP can transmit at a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control us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MA/CD+ACK (mandat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S/CTS (optional )</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C2057D2-66A2-416B-9213-1ECB15167011}" type="slidenum">
              <a:t>12</a:t>
            </a:fld>
          </a:p>
        </p:txBody>
      </p:sp>
      <p:sp>
        <p:nvSpPr>
          <p:cNvPr id="5" name="PlaceHolder 4"/>
          <p:cNvSpPr>
            <a:spLocks noGrp="1"/>
          </p:cNvSpPr>
          <p:nvPr>
            <p:ph type="dt" idx="1"/>
          </p:nvPr>
        </p:nvSpPr>
        <p:spPr/>
        <p:txBody>
          <a:bodyPr/>
          <a:p>
            <a:fld id="{178F2C1B-D406-4A50-B40C-04424BE693D5}"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11280" y="188640"/>
            <a:ext cx="63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DMA/CA+ACK operation</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uses </a:t>
            </a:r>
            <a:r>
              <a:rPr b="0" i="1" lang="en-US" sz="2800" spc="-1" strike="noStrike">
                <a:solidFill>
                  <a:srgbClr val="000000"/>
                </a:solidFill>
                <a:latin typeface="Arial"/>
              </a:rPr>
              <a:t>Carrier Sense Multiple Access Collision Avoidance with Acknowledgment (CDMA/CA+ACK)</a:t>
            </a:r>
            <a:r>
              <a:rPr b="0" lang="en-US" sz="2800" spc="-1" strike="noStrike">
                <a:solidFill>
                  <a:srgbClr val="000000"/>
                </a:solidFill>
                <a:latin typeface="Arial"/>
              </a:rPr>
              <a:t> rather than CDMA/CD (C</a:t>
            </a:r>
            <a:r>
              <a:rPr b="0" i="1" lang="en-US" sz="2800" spc="-1" strike="noStrike">
                <a:solidFill>
                  <a:srgbClr val="000000"/>
                </a:solidFill>
                <a:latin typeface="Arial"/>
              </a:rPr>
              <a:t>ollision Detection</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00" name=""/>
          <p:cNvGraphicFramePr/>
          <p:nvPr/>
        </p:nvGraphicFramePr>
        <p:xfrm>
          <a:off x="2124000" y="1295280"/>
          <a:ext cx="6804000" cy="5337360"/>
        </p:xfrm>
        <a:graphic>
          <a:graphicData uri="http://schemas.openxmlformats.org/presentationml/2006/ole">
            <p:oleObj r:id="rId2" spid="">
              <p:embed/>
              <p:pic>
                <p:nvPicPr>
                  <p:cNvPr id="101" name="" descr=""/>
                  <p:cNvPicPr/>
                  <p:nvPr/>
                </p:nvPicPr>
                <p:blipFill>
                  <a:blip r:embed="rId3"/>
                  <a:stretch/>
                </p:blipFill>
                <p:spPr>
                  <a:xfrm>
                    <a:off x="2124000" y="1295280"/>
                    <a:ext cx="6804000" cy="5337360"/>
                  </a:xfrm>
                  <a:prstGeom prst="rect">
                    <a:avLst/>
                  </a:prstGeom>
                  <a:ln w="0">
                    <a:noFill/>
                  </a:ln>
                </p:spPr>
              </p:pic>
            </p:oleObj>
          </a:graphicData>
        </a:graphic>
      </p:graphicFrame>
      <p:sp>
        <p:nvSpPr>
          <p:cNvPr id="4" name="PlaceHolder 3"/>
          <p:cNvSpPr>
            <a:spLocks noGrp="1"/>
          </p:cNvSpPr>
          <p:nvPr>
            <p:ph type="sldNum" idx="3"/>
          </p:nvPr>
        </p:nvSpPr>
        <p:spPr/>
        <p:txBody>
          <a:bodyPr/>
          <a:p>
            <a:fld id="{885F6D0D-0807-4BFE-8655-1A23013EB754}" type="slidenum">
              <a:t>13</a:t>
            </a:fld>
          </a:p>
        </p:txBody>
      </p:sp>
      <p:sp>
        <p:nvSpPr>
          <p:cNvPr id="5" name="PlaceHolder 4"/>
          <p:cNvSpPr>
            <a:spLocks noGrp="1"/>
          </p:cNvSpPr>
          <p:nvPr>
            <p:ph type="dt" idx="1"/>
          </p:nvPr>
        </p:nvSpPr>
        <p:spPr/>
        <p:txBody>
          <a:bodyPr/>
          <a:p>
            <a:fld id="{2ADB5FAA-8FDA-43FE-80AF-BC692E2D3116}"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84000" y="274320"/>
            <a:ext cx="6202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TS/CTS Operation</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838080" y="1905120"/>
            <a:ext cx="2971800" cy="2743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43200" y="411480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6" name=""/>
          <p:cNvSpPr/>
          <p:nvPr/>
        </p:nvSpPr>
        <p:spPr>
          <a:xfrm>
            <a:off x="1449360" y="196524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a:t>
            </a:r>
            <a:endParaRPr b="0" lang="en-US" sz="2000" spc="-1" strike="noStrike">
              <a:solidFill>
                <a:srgbClr val="000000"/>
              </a:solidFill>
              <a:latin typeface="Arial"/>
            </a:endParaRPr>
          </a:p>
        </p:txBody>
      </p:sp>
      <p:sp>
        <p:nvSpPr>
          <p:cNvPr id="107" name=""/>
          <p:cNvSpPr/>
          <p:nvPr/>
        </p:nvSpPr>
        <p:spPr>
          <a:xfrm>
            <a:off x="7421760" y="371808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ptop</a:t>
            </a:r>
            <a:endParaRPr b="0" lang="en-US" sz="2000" spc="-1" strike="noStrike">
              <a:solidFill>
                <a:srgbClr val="000000"/>
              </a:solidFill>
              <a:latin typeface="Arial"/>
            </a:endParaRPr>
          </a:p>
        </p:txBody>
      </p:sp>
      <p:sp>
        <p:nvSpPr>
          <p:cNvPr id="108" name=""/>
          <p:cNvSpPr/>
          <p:nvPr/>
        </p:nvSpPr>
        <p:spPr>
          <a:xfrm>
            <a:off x="4419720" y="3505320"/>
            <a:ext cx="1003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B</a:t>
            </a:r>
            <a:endParaRPr b="0" lang="en-US" sz="2000" spc="-1" strike="noStrike">
              <a:solidFill>
                <a:srgbClr val="000000"/>
              </a:solidFill>
              <a:latin typeface="Arial"/>
            </a:endParaRPr>
          </a:p>
        </p:txBody>
      </p:sp>
      <p:sp>
        <p:nvSpPr>
          <p:cNvPr id="109" name=""/>
          <p:cNvSpPr/>
          <p:nvPr/>
        </p:nvSpPr>
        <p:spPr>
          <a:xfrm>
            <a:off x="1446840" y="4724280"/>
            <a:ext cx="2134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Wired LAN</a:t>
            </a:r>
            <a:endParaRPr b="0" lang="en-US" sz="2000" spc="-1" strike="noStrike">
              <a:solidFill>
                <a:srgbClr val="000000"/>
              </a:solidFill>
              <a:latin typeface="Arial"/>
            </a:endParaRPr>
          </a:p>
        </p:txBody>
      </p:sp>
      <p:sp>
        <p:nvSpPr>
          <p:cNvPr id="110" name=""/>
          <p:cNvSpPr/>
          <p:nvPr/>
        </p:nvSpPr>
        <p:spPr>
          <a:xfrm>
            <a:off x="2514600" y="2590920"/>
            <a:ext cx="685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1752120" y="2666880"/>
            <a:ext cx="3812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257800" y="3260880"/>
            <a:ext cx="2286000" cy="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738400" y="3260880"/>
            <a:ext cx="84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a:t>
            </a:r>
            <a:endParaRPr b="0" lang="en-US" sz="2000" spc="-1" strike="noStrike">
              <a:solidFill>
                <a:srgbClr val="000000"/>
              </a:solidFill>
              <a:latin typeface="Arial"/>
            </a:endParaRPr>
          </a:p>
        </p:txBody>
      </p:sp>
      <p:pic>
        <p:nvPicPr>
          <p:cNvPr id="114" name="" descr=""/>
          <p:cNvPicPr/>
          <p:nvPr/>
        </p:nvPicPr>
        <p:blipFill>
          <a:blip r:embed="rId2"/>
          <a:stretch/>
        </p:blipFill>
        <p:spPr>
          <a:xfrm>
            <a:off x="2743200" y="3048120"/>
            <a:ext cx="660240" cy="1143000"/>
          </a:xfrm>
          <a:prstGeom prst="rect">
            <a:avLst/>
          </a:prstGeom>
          <a:ln w="0">
            <a:noFill/>
          </a:ln>
        </p:spPr>
      </p:pic>
      <p:pic>
        <p:nvPicPr>
          <p:cNvPr id="115" name="" descr=""/>
          <p:cNvPicPr/>
          <p:nvPr/>
        </p:nvPicPr>
        <p:blipFill>
          <a:blip r:embed="rId3"/>
          <a:stretch/>
        </p:blipFill>
        <p:spPr>
          <a:xfrm>
            <a:off x="7086600" y="2641680"/>
            <a:ext cx="1109520" cy="1076400"/>
          </a:xfrm>
          <a:prstGeom prst="rect">
            <a:avLst/>
          </a:prstGeom>
          <a:ln w="0">
            <a:noFill/>
          </a:ln>
        </p:spPr>
      </p:pic>
      <p:pic>
        <p:nvPicPr>
          <p:cNvPr id="116" name="" descr=""/>
          <p:cNvPicPr/>
          <p:nvPr/>
        </p:nvPicPr>
        <p:blipFill>
          <a:blip r:embed="rId4"/>
          <a:stretch/>
        </p:blipFill>
        <p:spPr>
          <a:xfrm>
            <a:off x="1219320" y="2971800"/>
            <a:ext cx="950760" cy="1066680"/>
          </a:xfrm>
          <a:prstGeom prst="rect">
            <a:avLst/>
          </a:prstGeom>
          <a:ln w="0">
            <a:noFill/>
          </a:ln>
        </p:spPr>
      </p:pic>
      <p:sp>
        <p:nvSpPr>
          <p:cNvPr id="117" name=""/>
          <p:cNvSpPr/>
          <p:nvPr/>
        </p:nvSpPr>
        <p:spPr>
          <a:xfrm>
            <a:off x="1068480" y="4038480"/>
            <a:ext cx="1255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PC</a:t>
            </a:r>
            <a:endParaRPr b="0" lang="en-US" sz="2000" spc="-1" strike="noStrike">
              <a:solidFill>
                <a:srgbClr val="000000"/>
              </a:solidFill>
              <a:latin typeface="Arial"/>
            </a:endParaRPr>
          </a:p>
        </p:txBody>
      </p:sp>
      <p:sp>
        <p:nvSpPr>
          <p:cNvPr id="118" name=""/>
          <p:cNvSpPr/>
          <p:nvPr/>
        </p:nvSpPr>
        <p:spPr>
          <a:xfrm>
            <a:off x="2514600" y="2514600"/>
            <a:ext cx="20574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9" name="" descr=""/>
          <p:cNvPicPr/>
          <p:nvPr/>
        </p:nvPicPr>
        <p:blipFill>
          <a:blip r:embed="rId5"/>
          <a:stretch/>
        </p:blipFill>
        <p:spPr>
          <a:xfrm>
            <a:off x="1905120" y="2209680"/>
            <a:ext cx="914400" cy="655920"/>
          </a:xfrm>
          <a:prstGeom prst="rect">
            <a:avLst/>
          </a:prstGeom>
          <a:ln w="0">
            <a:noFill/>
          </a:ln>
        </p:spPr>
      </p:pic>
      <p:pic>
        <p:nvPicPr>
          <p:cNvPr id="120" name="" descr=""/>
          <p:cNvPicPr/>
          <p:nvPr/>
        </p:nvPicPr>
        <p:blipFill>
          <a:blip r:embed="rId6"/>
          <a:stretch/>
        </p:blipFill>
        <p:spPr>
          <a:xfrm>
            <a:off x="4419720" y="2940120"/>
            <a:ext cx="838080" cy="617400"/>
          </a:xfrm>
          <a:prstGeom prst="rect">
            <a:avLst/>
          </a:prstGeom>
          <a:ln w="0">
            <a:noFill/>
          </a:ln>
        </p:spPr>
      </p:pic>
      <p:sp>
        <p:nvSpPr>
          <p:cNvPr id="121" name=""/>
          <p:cNvSpPr/>
          <p:nvPr/>
        </p:nvSpPr>
        <p:spPr>
          <a:xfrm>
            <a:off x="3780000" y="4941720"/>
            <a:ext cx="4832280" cy="19234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ccess point broadcas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ear-to-Send messa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on that sent the R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transmit unimped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stations hearing the CTS must wait</a:t>
            </a:r>
            <a:endParaRPr b="0" lang="en-US" sz="2000" spc="-1" strike="noStrike">
              <a:solidFill>
                <a:srgbClr val="000000"/>
              </a:solidFill>
              <a:latin typeface="Arial"/>
            </a:endParaRPr>
          </a:p>
        </p:txBody>
      </p:sp>
      <p:sp>
        <p:nvSpPr>
          <p:cNvPr id="122" name=""/>
          <p:cNvSpPr/>
          <p:nvPr/>
        </p:nvSpPr>
        <p:spPr>
          <a:xfrm flipV="1">
            <a:off x="4724280" y="1676160"/>
            <a:ext cx="0" cy="11430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4952880" y="2057040"/>
            <a:ext cx="609840" cy="7621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257800" y="2971800"/>
            <a:ext cx="83808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410080" y="3962520"/>
            <a:ext cx="533520" cy="4572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724280" y="4191120"/>
            <a:ext cx="0" cy="38088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495680" y="2209680"/>
            <a:ext cx="762120" cy="38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S</a:t>
            </a:r>
            <a:endParaRPr b="0" lang="en-US" sz="2000" spc="-1" strike="noStrike">
              <a:solidFill>
                <a:srgbClr val="000000"/>
              </a:solidFill>
              <a:latin typeface="Arial"/>
            </a:endParaRPr>
          </a:p>
        </p:txBody>
      </p:sp>
      <p:sp>
        <p:nvSpPr>
          <p:cNvPr id="128" name=""/>
          <p:cNvSpPr/>
          <p:nvPr/>
        </p:nvSpPr>
        <p:spPr>
          <a:xfrm flipH="1">
            <a:off x="5333760" y="2666880"/>
            <a:ext cx="144756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715000" y="2438280"/>
            <a:ext cx="762120" cy="38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S</a:t>
            </a:r>
            <a:endParaRPr b="0" lang="en-US" sz="2000" spc="-1" strike="noStrike">
              <a:solidFill>
                <a:srgbClr val="000000"/>
              </a:solidFill>
              <a:latin typeface="Arial"/>
            </a:endParaRPr>
          </a:p>
        </p:txBody>
      </p:sp>
      <p:sp>
        <p:nvSpPr>
          <p:cNvPr id="130" name=""/>
          <p:cNvSpPr/>
          <p:nvPr/>
        </p:nvSpPr>
        <p:spPr>
          <a:xfrm>
            <a:off x="395640" y="5373720"/>
            <a:ext cx="3211920" cy="1008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evice that wish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ransmit may send 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to-Send messag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4C82843-33F9-4CD6-94BF-AC0CA58F5157}" type="slidenum">
              <a:t>14</a:t>
            </a:fld>
          </a:p>
        </p:txBody>
      </p:sp>
      <p:sp>
        <p:nvSpPr>
          <p:cNvPr id="5" name="PlaceHolder 4"/>
          <p:cNvSpPr>
            <a:spLocks noGrp="1"/>
          </p:cNvSpPr>
          <p:nvPr>
            <p:ph type="dt" idx="1"/>
          </p:nvPr>
        </p:nvSpPr>
        <p:spPr/>
        <p:txBody>
          <a:bodyPr/>
          <a:p>
            <a:fld id="{1E45D4C1-9846-4CBC-AF43-3618477364A5}"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195280" y="274320"/>
            <a:ext cx="64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EE 802.11 group</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2"/>
          <a:stretch/>
        </p:blipFill>
        <p:spPr>
          <a:xfrm>
            <a:off x="4680" y="1197000"/>
            <a:ext cx="9136080" cy="5661000"/>
          </a:xfrm>
          <a:prstGeom prst="rect">
            <a:avLst/>
          </a:prstGeom>
          <a:ln w="0">
            <a:noFill/>
          </a:ln>
        </p:spPr>
      </p:pic>
      <p:sp>
        <p:nvSpPr>
          <p:cNvPr id="4" name="PlaceHolder 3"/>
          <p:cNvSpPr>
            <a:spLocks noGrp="1"/>
          </p:cNvSpPr>
          <p:nvPr>
            <p:ph type="sldNum" idx="3"/>
          </p:nvPr>
        </p:nvSpPr>
        <p:spPr/>
        <p:txBody>
          <a:bodyPr/>
          <a:p>
            <a:fld id="{5DACAC06-6FFF-4910-9C50-C73BC91C14B4}" type="slidenum">
              <a:t>15</a:t>
            </a:fld>
          </a:p>
        </p:txBody>
      </p:sp>
      <p:sp>
        <p:nvSpPr>
          <p:cNvPr id="5" name="PlaceHolder 4"/>
          <p:cNvSpPr>
            <a:spLocks noGrp="1"/>
          </p:cNvSpPr>
          <p:nvPr>
            <p:ph type="dt" idx="1"/>
          </p:nvPr>
        </p:nvSpPr>
        <p:spPr/>
        <p:txBody>
          <a:bodyPr/>
          <a:p>
            <a:fld id="{51106E5B-EBD5-4584-AB9F-F6BE3802E1F5}"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EE 802.11b</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most widely used standard and the first to become popular</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ts that adhere to this standard are considered “WiFi Certified”</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s an speed of 11Mbps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ignal range is best and not easily obstructed due to its low frequency</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t interoperable with 802.11a due to different frequencie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ly 3 non-overlapping channels, supports fewer simultaneous user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ful for the home market because of its inability to avoid APs conflicts and its low cost</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D38C8CB-6310-4026-8017-CDE3A013CC6B}" type="slidenum">
              <a:t>16</a:t>
            </a:fld>
          </a:p>
        </p:txBody>
      </p:sp>
      <p:sp>
        <p:nvSpPr>
          <p:cNvPr id="5" name="PlaceHolder 4"/>
          <p:cNvSpPr>
            <a:spLocks noGrp="1"/>
          </p:cNvSpPr>
          <p:nvPr>
            <p:ph type="dt" idx="1"/>
          </p:nvPr>
        </p:nvSpPr>
        <p:spPr/>
        <p:txBody>
          <a:bodyPr/>
          <a:p>
            <a:fld id="{3DC6DF80-C60F-4564-A9D1-F30B3073F66D}"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EE 802.11a</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ximum speed up to 54Mbps, operates in the 5Ghz b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ll products that adhere to this standard are considered “WiFi Certifi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ight available non-overlapping channels, may offer 14 in the future, support more simultaneous us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horter range than 802.11b due to its higher frequenc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t interoperable with 802.11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igher cost and mostly used in the business marke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B2766A-7889-460C-B3BA-A0781142D36F}" type="slidenum">
              <a:t>17</a:t>
            </a:fld>
          </a:p>
        </p:txBody>
      </p:sp>
      <p:sp>
        <p:nvSpPr>
          <p:cNvPr id="5" name="PlaceHolder 4"/>
          <p:cNvSpPr>
            <a:spLocks noGrp="1"/>
          </p:cNvSpPr>
          <p:nvPr>
            <p:ph type="dt" idx="1"/>
          </p:nvPr>
        </p:nvSpPr>
        <p:spPr/>
        <p:txBody>
          <a:bodyPr/>
          <a:p>
            <a:fld id="{0B2CEE17-7B7D-4A3F-9E73-53BE218D8E51}"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EE 802.11g</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es in the 2.4GHz band, throughput of 802.11g falls off more slowly than 802.11a throughp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speed up to 54Mpb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le with 802.11b, both standard use the same frequenc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mproved security enhancements over 802.11 and supports more simultaneous u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range is best and is not easily obstruc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channels available in the 2.4GHz band, only three non-overlapping channels, appliances may interfere on the unregulated signal frequenc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xpensive than 802.11b</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BEE5891-D13B-42FC-832D-28C9734A2F42}" type="slidenum">
              <a:t>18</a:t>
            </a:fld>
          </a:p>
        </p:txBody>
      </p:sp>
      <p:sp>
        <p:nvSpPr>
          <p:cNvPr id="5" name="PlaceHolder 4"/>
          <p:cNvSpPr>
            <a:spLocks noGrp="1"/>
          </p:cNvSpPr>
          <p:nvPr>
            <p:ph type="dt" idx="1"/>
          </p:nvPr>
        </p:nvSpPr>
        <p:spPr/>
        <p:txBody>
          <a:bodyPr/>
          <a:p>
            <a:fld id="{F1427762-BFAA-417C-9379-F0B74288864A}"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340000" y="274320"/>
            <a:ext cx="63468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stics of 802.11a/b/g</a:t>
            </a:r>
            <a:endParaRPr b="0" lang="en-US" sz="40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 descr=""/>
          <p:cNvPicPr/>
          <p:nvPr/>
        </p:nvPicPr>
        <p:blipFill>
          <a:blip r:embed="rId2"/>
          <a:stretch/>
        </p:blipFill>
        <p:spPr>
          <a:xfrm>
            <a:off x="250920" y="1341360"/>
            <a:ext cx="8893080" cy="5310360"/>
          </a:xfrm>
          <a:prstGeom prst="rect">
            <a:avLst/>
          </a:prstGeom>
          <a:ln w="0">
            <a:noFill/>
          </a:ln>
        </p:spPr>
      </p:pic>
      <p:sp>
        <p:nvSpPr>
          <p:cNvPr id="4" name="PlaceHolder 3"/>
          <p:cNvSpPr>
            <a:spLocks noGrp="1"/>
          </p:cNvSpPr>
          <p:nvPr>
            <p:ph type="sldNum" idx="3"/>
          </p:nvPr>
        </p:nvSpPr>
        <p:spPr/>
        <p:txBody>
          <a:bodyPr/>
          <a:p>
            <a:fld id="{7F2D1886-043B-4361-A843-D9E1DDC5A86F}" type="slidenum">
              <a:t>19</a:t>
            </a:fld>
          </a:p>
        </p:txBody>
      </p:sp>
      <p:sp>
        <p:nvSpPr>
          <p:cNvPr id="5" name="PlaceHolder 4"/>
          <p:cNvSpPr>
            <a:spLocks noGrp="1"/>
          </p:cNvSpPr>
          <p:nvPr>
            <p:ph type="dt" idx="1"/>
          </p:nvPr>
        </p:nvSpPr>
        <p:spPr/>
        <p:txBody>
          <a:bodyPr/>
          <a:p>
            <a:fld id="{8A35D783-318A-4B21-941B-25132262C38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84000" y="-360"/>
            <a:ext cx="6659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er data using RF an IR sign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ment to a wired LAN, not a substitute for wired L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points link wired LAN with wireless L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9C27C7B-40F2-4D12-8342-96FB77FD8831}" type="slidenum">
              <a:t>2</a:t>
            </a:fld>
          </a:p>
        </p:txBody>
      </p:sp>
      <p:sp>
        <p:nvSpPr>
          <p:cNvPr id="5" name="PlaceHolder 4"/>
          <p:cNvSpPr>
            <a:spLocks noGrp="1"/>
          </p:cNvSpPr>
          <p:nvPr>
            <p:ph type="dt" idx="1"/>
          </p:nvPr>
        </p:nvSpPr>
        <p:spPr/>
        <p:txBody>
          <a:bodyPr/>
          <a:p>
            <a:fld id="{E97F7386-F691-4691-8239-380EA2BC7BAD}"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02.11 Security</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older products the installation default was to have no security at al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ired Equivalent Privacy (WE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curity protocol for WLAN defined in the 802.11b standar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crypts data over radio so it is protected ad it is transmitted from one end point to anoth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two stations uses the same encryption key, shared key </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so much traffic generated with one unchanging key, hackers can crack the key by collecting data for a few day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key is cracked, the attacker can read all messages and send attack messages into the network without going through a firewall filter</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that automates the hacking process is widely available on the net</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n be improved by adding VPN but it is more expensiv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F3495DB-5A59-478B-8F6A-10ACEDC7BDEE}" type="slidenum">
              <a:t>20</a:t>
            </a:fld>
          </a:p>
        </p:txBody>
      </p:sp>
      <p:sp>
        <p:nvSpPr>
          <p:cNvPr id="5" name="PlaceHolder 4"/>
          <p:cNvSpPr>
            <a:spLocks noGrp="1"/>
          </p:cNvSpPr>
          <p:nvPr>
            <p:ph type="dt" idx="1"/>
          </p:nvPr>
        </p:nvSpPr>
        <p:spPr/>
        <p:txBody>
          <a:bodyPr/>
          <a:p>
            <a:fld id="{C175C891-0F75-46FD-94A8-BDF5B7C6D3CB}"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02.11 Security</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i-Fi Protected  Access (WP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Fi standard introduced in 2002 to improve the security flaws of WE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signed to work with existing Wi-Fi products that have WEP, i.e as a software upgrade to existing hard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s Temporary Key Integrity Protocol (TKIP) and Extensible Authentication Protocol (EAP), features from IEEE802.11i standar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AD930A9-211F-4C03-90EB-0F54B177069F}" type="slidenum">
              <a:t>21</a:t>
            </a:fld>
          </a:p>
        </p:txBody>
      </p:sp>
      <p:sp>
        <p:nvSpPr>
          <p:cNvPr id="5" name="PlaceHolder 4"/>
          <p:cNvSpPr>
            <a:spLocks noGrp="1"/>
          </p:cNvSpPr>
          <p:nvPr>
            <p:ph type="dt" idx="1"/>
          </p:nvPr>
        </p:nvSpPr>
        <p:spPr/>
        <p:txBody>
          <a:bodyPr/>
          <a:p>
            <a:fld id="{0F51CD89-E396-4640-9A5A-7924ED06A001}"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02.11 Security</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EEE 802.11i secur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ull security mechanism introduced in 2003</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i specifies Temporal Key Integrity Protocol (TKIP)</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KIP scrambles the keys using a hashing algorithm and by adding an integrity-checking feature, ensures that the keys have not been tampered with.</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i specifies Expensively Authentication  Protocol (EAP)</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entication is one party, providing its identification ato the other party</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enticate with an authentication server, checks authentication data and sends back an affirmation or rejectio message </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8E6C15F-A477-457F-8AC7-26841F9850F3}" type="slidenum">
              <a:t>22</a:t>
            </a:fld>
          </a:p>
        </p:txBody>
      </p:sp>
      <p:sp>
        <p:nvSpPr>
          <p:cNvPr id="5" name="PlaceHolder 4"/>
          <p:cNvSpPr>
            <a:spLocks noGrp="1"/>
          </p:cNvSpPr>
          <p:nvPr>
            <p:ph type="dt" idx="1"/>
          </p:nvPr>
        </p:nvSpPr>
        <p:spPr/>
        <p:txBody>
          <a:bodyPr/>
          <a:p>
            <a:fld id="{226A0765-928C-49AF-9643-5D9AD07FDBC5}"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411280" y="-36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EEE 802.15</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enable short range wireless connectivity for mobile devices, consumer electronics and compu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USB – wireless equivalent to current wired US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 low power, low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igBee – low power, low cos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C15D095-FE52-4DDC-BB01-2306D233C132}" type="slidenum">
              <a:t>23</a:t>
            </a:fld>
          </a:p>
        </p:txBody>
      </p:sp>
      <p:sp>
        <p:nvSpPr>
          <p:cNvPr id="5" name="PlaceHolder 4"/>
          <p:cNvSpPr>
            <a:spLocks noGrp="1"/>
          </p:cNvSpPr>
          <p:nvPr>
            <p:ph type="dt" idx="1"/>
          </p:nvPr>
        </p:nvSpPr>
        <p:spPr/>
        <p:txBody>
          <a:bodyPr/>
          <a:p>
            <a:fld id="{847C0356-5182-4AB8-BB76-EB9C94622CDB}"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340000" y="-360"/>
            <a:ext cx="680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Arial"/>
              </a:rPr>
              <a:t>Wireless USB – IEEE802.15.3a</a:t>
            </a:r>
            <a:endParaRPr b="0" lang="en-US" sz="35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Very new standard - yet to be finali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tends to provide a method whereby current peripheral devices will be able to intelligently connect without wi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ar topology with up to 127 devices per controlling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peeds of 480Mbps @ 3m &amp;        110Mbps @ 10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5437AA-E751-4B1E-9782-D745564FE240}" type="slidenum">
              <a:t>24</a:t>
            </a:fld>
          </a:p>
        </p:txBody>
      </p:sp>
      <p:sp>
        <p:nvSpPr>
          <p:cNvPr id="5" name="PlaceHolder 4"/>
          <p:cNvSpPr>
            <a:spLocks noGrp="1"/>
          </p:cNvSpPr>
          <p:nvPr>
            <p:ph type="dt" idx="1"/>
          </p:nvPr>
        </p:nvSpPr>
        <p:spPr/>
        <p:txBody>
          <a:bodyPr/>
          <a:p>
            <a:fld id="{4BA0DCA2-17B0-406C-834F-9A60834400AB}"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60"/>
            <a:ext cx="680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IEEE 802.15.1 – Bluetooth</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imary use in providing connectivity for battery powered devices such as laptops, cameras, PDAs, mobile phones, mobile phone headset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ar network topology with 8 devices including master node per P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38AD066-BA9E-4409-9DFC-70669961C924}" type="slidenum">
              <a:t>25</a:t>
            </a:fld>
          </a:p>
        </p:txBody>
      </p:sp>
      <p:sp>
        <p:nvSpPr>
          <p:cNvPr id="5" name="PlaceHolder 4"/>
          <p:cNvSpPr>
            <a:spLocks noGrp="1"/>
          </p:cNvSpPr>
          <p:nvPr>
            <p:ph type="dt" idx="1"/>
          </p:nvPr>
        </p:nvSpPr>
        <p:spPr/>
        <p:txBody>
          <a:bodyPr/>
          <a:p>
            <a:fld id="{161005C2-1273-4981-91D5-4C253BE04BB4}"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340000" y="-360"/>
            <a:ext cx="680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uetooth</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FHSS at the 2.45GHz ISM band using 79 channels between 2.402-2.480 GH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is from 10cm up to 10 metres and power consumption of 0dB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increased up to 100 meters by amplifying power to 20dB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llent for mobi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support TCP/IP and wireless LAN applications wel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low, maximum speed 722kbp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34FFE96-20EA-45CC-8F85-048F9B620817}" type="slidenum">
              <a:t>26</a:t>
            </a:fld>
          </a:p>
        </p:txBody>
      </p:sp>
      <p:sp>
        <p:nvSpPr>
          <p:cNvPr id="5" name="PlaceHolder 4"/>
          <p:cNvSpPr>
            <a:spLocks noGrp="1"/>
          </p:cNvSpPr>
          <p:nvPr>
            <p:ph type="dt" idx="1"/>
          </p:nvPr>
        </p:nvSpPr>
        <p:spPr/>
        <p:txBody>
          <a:bodyPr/>
          <a:p>
            <a:fld id="{B606D3B3-B68B-4BE1-A0CC-2DA100C774A4}"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411280" y="-36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uetooth Architectur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ch radio has </a:t>
            </a:r>
            <a:r>
              <a:rPr b="0" lang="en-US" sz="2000" spc="-1" strike="noStrike">
                <a:solidFill>
                  <a:srgbClr val="000000"/>
                </a:solidFill>
                <a:latin typeface="Arial"/>
                <a:ea typeface="宋体"/>
              </a:rPr>
              <a:t>48-bit unique device address (BD_ADDR) that is fixed</a:t>
            </a: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ach active device within a piconet is identifiable by a 3-bit active device addr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active slaves in unconnected modes may continue to reside within the piconet</a:t>
            </a:r>
            <a:endParaRPr b="0" lang="en-US" sz="2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宋体"/>
              </a:rPr>
              <a:t>A master is the only one that may initiate a Bluetooth communication link</a:t>
            </a: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宋体"/>
              </a:rPr>
              <a:t>Slaves are not allowed to talk to each other direct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宋体"/>
              </a:rPr>
              <a:t>Once a link is established, the slave may request a master/slave switch to become the mas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宋体"/>
              </a:rPr>
              <a:t>Each piconet uses a different frequency hopping seque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宋体"/>
              </a:rPr>
              <a:t>Radio devices used TD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宋体"/>
              </a:rPr>
              <a:t>A master device in a piconet transmits on even numbered slots and the slaves may transmit on odd numbered slots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4D96212-5524-41B3-859D-5835EA51130C}" type="slidenum">
              <a:t>27</a:t>
            </a:fld>
          </a:p>
        </p:txBody>
      </p:sp>
      <p:sp>
        <p:nvSpPr>
          <p:cNvPr id="5" name="PlaceHolder 4"/>
          <p:cNvSpPr>
            <a:spLocks noGrp="1"/>
          </p:cNvSpPr>
          <p:nvPr>
            <p:ph type="dt" idx="1"/>
          </p:nvPr>
        </p:nvSpPr>
        <p:spPr/>
        <p:txBody>
          <a:bodyPr/>
          <a:p>
            <a:fld id="{F5E2C2F9-A6CE-42EC-8D55-B9942191E466}"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84000" y="-360"/>
            <a:ext cx="6659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EEE 802.15.4 – ZigBee</a:t>
            </a:r>
            <a:br>
              <a:rPr sz="4000"/>
            </a:br>
            <a:endParaRPr b="0" lang="en-US" sz="4000" spc="-1" strike="noStrike">
              <a:solidFill>
                <a:srgbClr val="000000"/>
              </a:solidFill>
              <a:latin typeface="Arial"/>
            </a:endParaRPr>
          </a:p>
        </p:txBody>
      </p:sp>
      <p:sp>
        <p:nvSpPr>
          <p:cNvPr id="160"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ra Low powered digital ra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monitoring and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bit or 64bit addr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ariety of topologies avail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 to poi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self-healing) Mes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SSS &amp; 128bit encryp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CED32A8-C35E-49D6-9B5B-4A400866CBC1}" type="slidenum">
              <a:t>28</a:t>
            </a:fld>
          </a:p>
        </p:txBody>
      </p:sp>
      <p:sp>
        <p:nvSpPr>
          <p:cNvPr id="5" name="PlaceHolder 4"/>
          <p:cNvSpPr>
            <a:spLocks noGrp="1"/>
          </p:cNvSpPr>
          <p:nvPr>
            <p:ph type="dt" idx="1"/>
          </p:nvPr>
        </p:nvSpPr>
        <p:spPr/>
        <p:txBody>
          <a:bodyPr/>
          <a:p>
            <a:fld id="{A820A7F3-8396-4484-B5D9-1DF91B69E409}"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411280" y="-36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ZigBee Architecture </a:t>
            </a:r>
            <a:endParaRPr b="0" lang="en-US" sz="4400" spc="-1" strike="noStrike">
              <a:solidFill>
                <a:srgbClr val="000000"/>
              </a:solidFill>
              <a:latin typeface="Arial"/>
            </a:endParaRPr>
          </a:p>
        </p:txBody>
      </p:sp>
      <p:pic>
        <p:nvPicPr>
          <p:cNvPr id="162" name="" descr=""/>
          <p:cNvPicPr/>
          <p:nvPr/>
        </p:nvPicPr>
        <p:blipFill>
          <a:blip r:embed="rId2"/>
          <a:stretch/>
        </p:blipFill>
        <p:spPr>
          <a:xfrm>
            <a:off x="250920" y="1413000"/>
            <a:ext cx="6192720" cy="4087800"/>
          </a:xfrm>
          <a:prstGeom prst="rect">
            <a:avLst/>
          </a:prstGeom>
          <a:ln w="0">
            <a:noFill/>
          </a:ln>
        </p:spPr>
      </p:pic>
      <p:sp>
        <p:nvSpPr>
          <p:cNvPr id="163" name=""/>
          <p:cNvSpPr/>
          <p:nvPr/>
        </p:nvSpPr>
        <p:spPr>
          <a:xfrm>
            <a:off x="6588000" y="1700280"/>
            <a:ext cx="277200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vices perform a number of roles in the networ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dding devices to network extends rang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ordinator node tests network for shortest path and least congested route for dat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AFBE4D6-7E31-4FC1-B5AD-3E271D8DD96C}" type="slidenum">
              <a:t>29</a:t>
            </a:fld>
          </a:p>
        </p:txBody>
      </p:sp>
      <p:sp>
        <p:nvSpPr>
          <p:cNvPr id="4" name="PlaceHolder 3"/>
          <p:cNvSpPr>
            <a:spLocks noGrp="1"/>
          </p:cNvSpPr>
          <p:nvPr>
            <p:ph type="dt" idx="1"/>
          </p:nvPr>
        </p:nvSpPr>
        <p:spPr/>
        <p:txBody>
          <a:bodyPr/>
          <a:p>
            <a:fld id="{CC6BC275-B93E-4CD2-99AD-00C8F931DC9D}"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54" name="PlaceHolder 2"/>
          <p:cNvSpPr>
            <a:spLocks noGrp="1"/>
          </p:cNvSpPr>
          <p:nvPr>
            <p:ph/>
          </p:nvPr>
        </p:nvSpPr>
        <p:spPr>
          <a:xfrm>
            <a:off x="394920" y="1700280"/>
            <a:ext cx="8280360" cy="3241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s relocation and other modification to network struc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link between a LAN server and a mobile client such as laptop or PD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s the wired LAN services to open areas unable to install a wired connec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me cases it can replace wired LANs if wired LANs are not an option (e.g. asbestos building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 descr=""/>
          <p:cNvPicPr/>
          <p:nvPr/>
        </p:nvPicPr>
        <p:blipFill>
          <a:blip r:embed="rId2"/>
          <a:stretch/>
        </p:blipFill>
        <p:spPr>
          <a:xfrm>
            <a:off x="5364000" y="4746600"/>
            <a:ext cx="3780000" cy="2111400"/>
          </a:xfrm>
          <a:prstGeom prst="rect">
            <a:avLst/>
          </a:prstGeom>
          <a:ln w="0">
            <a:noFill/>
          </a:ln>
        </p:spPr>
      </p:pic>
      <p:sp>
        <p:nvSpPr>
          <p:cNvPr id="4" name="PlaceHolder 3"/>
          <p:cNvSpPr>
            <a:spLocks noGrp="1"/>
          </p:cNvSpPr>
          <p:nvPr>
            <p:ph type="sldNum" idx="3"/>
          </p:nvPr>
        </p:nvSpPr>
        <p:spPr/>
        <p:txBody>
          <a:bodyPr/>
          <a:p>
            <a:fld id="{AD3FFE04-DB1D-4F81-9645-E050932BF1C3}" type="slidenum">
              <a:t>3</a:t>
            </a:fld>
          </a:p>
        </p:txBody>
      </p:sp>
      <p:sp>
        <p:nvSpPr>
          <p:cNvPr id="5" name="PlaceHolder 4"/>
          <p:cNvSpPr>
            <a:spLocks noGrp="1"/>
          </p:cNvSpPr>
          <p:nvPr>
            <p:ph type="dt" idx="1"/>
          </p:nvPr>
        </p:nvSpPr>
        <p:spPr/>
        <p:txBody>
          <a:bodyPr/>
          <a:p>
            <a:fld id="{3CB8A669-E559-474D-ACC3-E7979712B723}"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411280" y="-36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ummary of Standards</a:t>
            </a:r>
            <a:endParaRPr b="0" lang="en-US" sz="4400" spc="-1" strike="noStrike">
              <a:solidFill>
                <a:srgbClr val="000000"/>
              </a:solidFill>
              <a:latin typeface="Arial"/>
            </a:endParaRPr>
          </a:p>
        </p:txBody>
      </p:sp>
      <p:graphicFrame>
        <p:nvGraphicFramePr>
          <p:cNvPr id="165" name=""/>
          <p:cNvGraphicFramePr/>
          <p:nvPr/>
        </p:nvGraphicFramePr>
        <p:xfrm>
          <a:off x="457200" y="1600200"/>
          <a:ext cx="8229600" cy="3803760"/>
        </p:xfrm>
        <a:graphic>
          <a:graphicData uri="http://schemas.openxmlformats.org/drawingml/2006/table">
            <a:tbl>
              <a:tblPr/>
              <a:tblGrid>
                <a:gridCol w="2351160"/>
                <a:gridCol w="2030400"/>
                <a:gridCol w="1711440"/>
                <a:gridCol w="2136600"/>
              </a:tblGrid>
              <a:tr h="337320">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andar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ZigBee</a:t>
                      </a:r>
                      <a:r>
                        <a:rPr b="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i-Fi</a:t>
                      </a:r>
                      <a:r>
                        <a:rPr b="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uetooth</a:t>
                      </a:r>
                      <a:r>
                        <a:rPr b="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63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02.15.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02.11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02.1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ransmission Range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 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 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 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1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ttery Life (day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 – 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 – 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8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twork Size (# of nodes)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t; 64,000 (with 64bit address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pplicatio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nitoring &amp; Contro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b, Email, Vide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ble Replacemen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tack Size (K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 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4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roughput kb/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 – 2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6" name=""/>
          <p:cNvSpPr/>
          <p:nvPr/>
        </p:nvSpPr>
        <p:spPr>
          <a:xfrm>
            <a:off x="0" y="6237360"/>
            <a:ext cx="61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able from </a:t>
            </a:r>
            <a:r>
              <a:rPr b="0" lang="en-US" sz="1800" spc="-1" strike="noStrike">
                <a:solidFill>
                  <a:srgbClr val="000000"/>
                </a:solidFill>
                <a:latin typeface="Arial"/>
              </a:rPr>
              <a:t>http://www.maxstream.net/wireless/zigbee.php</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5A94325-A6D3-449A-8788-DBEFE5B310CB}" type="slidenum">
              <a:t>30</a:t>
            </a:fld>
          </a:p>
        </p:txBody>
      </p:sp>
      <p:sp>
        <p:nvSpPr>
          <p:cNvPr id="4" name="PlaceHolder 3"/>
          <p:cNvSpPr>
            <a:spLocks noGrp="1"/>
          </p:cNvSpPr>
          <p:nvPr>
            <p:ph type="dt" idx="1"/>
          </p:nvPr>
        </p:nvSpPr>
        <p:spPr/>
        <p:txBody>
          <a:bodyPr/>
          <a:p>
            <a:fld id="{4DFD2C94-FCC3-493C-BD28-01CB13E6FAF6}"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11280" y="-36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Questions</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FE7B798-7B9F-4C01-AC1B-9B073DCBCC0B}" type="slidenum">
              <a:t>31</a:t>
            </a:fld>
          </a:p>
        </p:txBody>
      </p:sp>
      <p:sp>
        <p:nvSpPr>
          <p:cNvPr id="5" name="PlaceHolder 4"/>
          <p:cNvSpPr>
            <a:spLocks noGrp="1"/>
          </p:cNvSpPr>
          <p:nvPr>
            <p:ph type="dt" idx="1"/>
          </p:nvPr>
        </p:nvSpPr>
        <p:spPr/>
        <p:txBody>
          <a:bodyPr/>
          <a:p>
            <a:fld id="{D851E080-8964-4FA5-A5C7-BEED3623F01C}"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11280" y="-36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Wireless LAN</a:t>
            </a:r>
            <a:endParaRPr b="0" lang="en-US" sz="4400" spc="-1" strike="noStrike">
              <a:solidFill>
                <a:srgbClr val="000000"/>
              </a:solidFill>
              <a:latin typeface="Arial"/>
            </a:endParaRPr>
          </a:p>
        </p:txBody>
      </p:sp>
      <p:graphicFrame>
        <p:nvGraphicFramePr>
          <p:cNvPr id="57" name=""/>
          <p:cNvGraphicFramePr/>
          <p:nvPr/>
        </p:nvGraphicFramePr>
        <p:xfrm>
          <a:off x="457200" y="1600200"/>
          <a:ext cx="8229600" cy="2935440"/>
        </p:xfrm>
        <a:graphic>
          <a:graphicData uri="http://schemas.openxmlformats.org/drawingml/2006/table">
            <a:tbl>
              <a:tblPr/>
              <a:tblGrid>
                <a:gridCol w="2530440"/>
                <a:gridCol w="2955960"/>
                <a:gridCol w="27432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ireless Standa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mon Sub-standar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ypical Applica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1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EEE 802.11x</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LA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EEE 802.11a,b,g</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ifi networks with high speed data access over a wide area for notebook and PDA comput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20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EEE 802.15.x</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PA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EEE 802.15.1 – Bluetooth</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EEE802.15.3 – Wireless USB</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EEE 802.15.4 – Zigbe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hort range wireless connectivity for peripheral devices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D7C8C97-82A8-418A-9BA5-2E80D5CE9081}" type="slidenum">
              <a:t>4</a:t>
            </a:fld>
          </a:p>
        </p:txBody>
      </p:sp>
      <p:sp>
        <p:nvSpPr>
          <p:cNvPr id="4" name="PlaceHolder 3"/>
          <p:cNvSpPr>
            <a:spLocks noGrp="1"/>
          </p:cNvSpPr>
          <p:nvPr>
            <p:ph type="dt" idx="1"/>
          </p:nvPr>
        </p:nvSpPr>
        <p:spPr/>
        <p:txBody>
          <a:bodyPr/>
          <a:p>
            <a:fld id="{3B046392-1A9D-499C-BBD0-42CE2803EDFE}"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11280" y="-36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F Propagation</a:t>
            </a:r>
            <a:endParaRPr b="0" lang="en-US" sz="4400" spc="-1" strike="noStrike">
              <a:solidFill>
                <a:srgbClr val="000000"/>
              </a:solidFill>
              <a:latin typeface="Arial"/>
            </a:endParaRPr>
          </a:p>
        </p:txBody>
      </p:sp>
      <p:sp>
        <p:nvSpPr>
          <p:cNvPr id="59"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ansmit signals at 902-928MHz, 2.4-2.4835GHz, or 5-5.5825GHz</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ine-of-sight transmiss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s Omni directional antenna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d for short distance communic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perates in the </a:t>
            </a:r>
            <a:r>
              <a:rPr b="0" lang="en-AU" sz="2400" spc="-1" strike="noStrike">
                <a:solidFill>
                  <a:srgbClr val="000000"/>
                </a:solidFill>
                <a:latin typeface="Arial"/>
                <a:ea typeface="宋体"/>
              </a:rPr>
              <a:t>Industrial, Scientific and Medical (ISM) band which</a:t>
            </a:r>
            <a:r>
              <a:rPr b="0" lang="en-AU" sz="2400" spc="-1" strike="noStrike">
                <a:solidFill>
                  <a:srgbClr val="000000"/>
                </a:solidFill>
                <a:latin typeface="Arial"/>
              </a:rPr>
              <a:t> does not require lice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s Spread Spectrum Transmiss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ffers from interference and propagation probl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tenu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hadow spo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ultipath interference and Rayleigh fad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M inter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B96B579-E659-4069-8729-4A21D5D06EE3}" type="slidenum">
              <a:t>5</a:t>
            </a:fld>
          </a:p>
        </p:txBody>
      </p:sp>
      <p:sp>
        <p:nvSpPr>
          <p:cNvPr id="5" name="PlaceHolder 4"/>
          <p:cNvSpPr>
            <a:spLocks noGrp="1"/>
          </p:cNvSpPr>
          <p:nvPr>
            <p:ph type="dt" idx="1"/>
          </p:nvPr>
        </p:nvSpPr>
        <p:spPr/>
        <p:txBody>
          <a:bodyPr/>
          <a:p>
            <a:fld id="{3B74E154-66D9-4E9C-9F69-8E76B0685210}"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2"/>
          <a:stretch/>
        </p:blipFill>
        <p:spPr>
          <a:xfrm>
            <a:off x="4267080" y="3200400"/>
            <a:ext cx="1090800" cy="2209680"/>
          </a:xfrm>
          <a:prstGeom prst="rect">
            <a:avLst/>
          </a:prstGeom>
          <a:ln w="0">
            <a:noFill/>
          </a:ln>
        </p:spPr>
      </p:pic>
      <p:pic>
        <p:nvPicPr>
          <p:cNvPr id="62" name="" descr=""/>
          <p:cNvPicPr/>
          <p:nvPr/>
        </p:nvPicPr>
        <p:blipFill>
          <a:blip r:embed="rId3"/>
          <a:stretch/>
        </p:blipFill>
        <p:spPr>
          <a:xfrm>
            <a:off x="1371600" y="4068720"/>
            <a:ext cx="990720" cy="960480"/>
          </a:xfrm>
          <a:prstGeom prst="rect">
            <a:avLst/>
          </a:prstGeom>
          <a:ln w="0">
            <a:noFill/>
          </a:ln>
        </p:spPr>
      </p:pic>
      <p:sp>
        <p:nvSpPr>
          <p:cNvPr id="63" name=""/>
          <p:cNvSpPr/>
          <p:nvPr/>
        </p:nvSpPr>
        <p:spPr>
          <a:xfrm>
            <a:off x="762120" y="5622840"/>
            <a:ext cx="731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629400" y="4175280"/>
            <a:ext cx="457200" cy="144756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674240" y="2209680"/>
            <a:ext cx="28249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uation: signal ge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er with distance</a:t>
            </a:r>
            <a:endParaRPr b="0" lang="en-US" sz="2000" spc="-1" strike="noStrike">
              <a:solidFill>
                <a:srgbClr val="000000"/>
              </a:solidFill>
              <a:latin typeface="Arial"/>
            </a:endParaRPr>
          </a:p>
        </p:txBody>
      </p:sp>
      <p:sp>
        <p:nvSpPr>
          <p:cNvPr id="66" name=""/>
          <p:cNvSpPr/>
          <p:nvPr/>
        </p:nvSpPr>
        <p:spPr>
          <a:xfrm>
            <a:off x="7110000" y="3565440"/>
            <a:ext cx="155376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dow</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Spot)</a:t>
            </a:r>
            <a:endParaRPr b="0" lang="en-US" sz="2000" spc="-1" strike="noStrike">
              <a:solidFill>
                <a:srgbClr val="000000"/>
              </a:solidFill>
              <a:latin typeface="Arial"/>
            </a:endParaRPr>
          </a:p>
        </p:txBody>
      </p:sp>
      <p:sp>
        <p:nvSpPr>
          <p:cNvPr id="67" name=""/>
          <p:cNvSpPr/>
          <p:nvPr/>
        </p:nvSpPr>
        <p:spPr>
          <a:xfrm>
            <a:off x="762120" y="2460600"/>
            <a:ext cx="167616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4"/>
          <a:stretch/>
        </p:blipFill>
        <p:spPr>
          <a:xfrm>
            <a:off x="1143000" y="1851120"/>
            <a:ext cx="990720" cy="960480"/>
          </a:xfrm>
          <a:prstGeom prst="rect">
            <a:avLst/>
          </a:prstGeom>
          <a:ln w="0">
            <a:noFill/>
          </a:ln>
        </p:spPr>
      </p:pic>
      <p:sp>
        <p:nvSpPr>
          <p:cNvPr id="69" name=""/>
          <p:cNvSpPr/>
          <p:nvPr/>
        </p:nvSpPr>
        <p:spPr>
          <a:xfrm>
            <a:off x="1825200" y="1295280"/>
            <a:ext cx="2701440" cy="192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magnet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I) fr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st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ovens, etc.</a:t>
            </a:r>
            <a:endParaRPr b="0" lang="en-US" sz="2000" spc="-1" strike="noStrike">
              <a:solidFill>
                <a:srgbClr val="000000"/>
              </a:solidFill>
              <a:latin typeface="Arial"/>
            </a:endParaRPr>
          </a:p>
        </p:txBody>
      </p:sp>
      <p:sp>
        <p:nvSpPr>
          <p:cNvPr id="70" name=""/>
          <p:cNvSpPr/>
          <p:nvPr/>
        </p:nvSpPr>
        <p:spPr>
          <a:xfrm>
            <a:off x="5029200" y="3940200"/>
            <a:ext cx="13716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2361960" y="3962520"/>
            <a:ext cx="198108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3429000" y="4251240"/>
            <a:ext cx="990720" cy="1295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flipV="1">
            <a:off x="2438280" y="5013360"/>
            <a:ext cx="990720" cy="5335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914760" y="5181480"/>
            <a:ext cx="2034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Reflected Signal</a:t>
            </a:r>
            <a:endParaRPr b="0" lang="en-US" sz="2000" spc="-1" strike="noStrike">
              <a:solidFill>
                <a:srgbClr val="000000"/>
              </a:solidFill>
              <a:latin typeface="Arial"/>
            </a:endParaRPr>
          </a:p>
        </p:txBody>
      </p:sp>
      <p:sp>
        <p:nvSpPr>
          <p:cNvPr id="75" name=""/>
          <p:cNvSpPr/>
          <p:nvPr/>
        </p:nvSpPr>
        <p:spPr>
          <a:xfrm>
            <a:off x="640080" y="38862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ptop</a:t>
            </a:r>
            <a:endParaRPr b="0" lang="en-US" sz="2000" spc="-1" strike="noStrike">
              <a:solidFill>
                <a:srgbClr val="000000"/>
              </a:solidFill>
              <a:latin typeface="Arial"/>
            </a:endParaRPr>
          </a:p>
        </p:txBody>
      </p:sp>
      <p:sp>
        <p:nvSpPr>
          <p:cNvPr id="76" name=""/>
          <p:cNvSpPr/>
          <p:nvPr/>
        </p:nvSpPr>
        <p:spPr>
          <a:xfrm>
            <a:off x="2489760" y="3657600"/>
            <a:ext cx="1623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rect Signal</a:t>
            </a:r>
            <a:endParaRPr b="0" lang="en-US" sz="2000" spc="-1" strike="noStrike">
              <a:solidFill>
                <a:srgbClr val="000000"/>
              </a:solidFill>
              <a:latin typeface="Arial"/>
            </a:endParaRPr>
          </a:p>
        </p:txBody>
      </p:sp>
      <p:sp>
        <p:nvSpPr>
          <p:cNvPr id="77" name=""/>
          <p:cNvSpPr/>
          <p:nvPr/>
        </p:nvSpPr>
        <p:spPr>
          <a:xfrm>
            <a:off x="2436840" y="4327560"/>
            <a:ext cx="1540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at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ence</a:t>
            </a:r>
            <a:endParaRPr b="0" lang="en-US" sz="2000" spc="-1" strike="noStrike">
              <a:solidFill>
                <a:srgbClr val="000000"/>
              </a:solidFill>
              <a:latin typeface="Arial"/>
            </a:endParaRPr>
          </a:p>
        </p:txBody>
      </p:sp>
      <p:pic>
        <p:nvPicPr>
          <p:cNvPr id="78" name="" descr=""/>
          <p:cNvPicPr/>
          <p:nvPr/>
        </p:nvPicPr>
        <p:blipFill>
          <a:blip r:embed="rId5"/>
          <a:stretch/>
        </p:blipFill>
        <p:spPr>
          <a:xfrm>
            <a:off x="7680240" y="4713120"/>
            <a:ext cx="320760" cy="1154160"/>
          </a:xfrm>
          <a:prstGeom prst="rect">
            <a:avLst/>
          </a:prstGeom>
          <a:ln w="0">
            <a:noFill/>
          </a:ln>
        </p:spPr>
      </p:pic>
      <p:sp>
        <p:nvSpPr>
          <p:cNvPr id="79" name=""/>
          <p:cNvSpPr/>
          <p:nvPr/>
        </p:nvSpPr>
        <p:spPr>
          <a:xfrm>
            <a:off x="611280" y="5622840"/>
            <a:ext cx="770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and reflected signals may cancel out (Rayleigh fading)</a:t>
            </a:r>
            <a:endParaRPr b="0" lang="en-US" sz="2000" spc="-1" strike="noStrike">
              <a:solidFill>
                <a:srgbClr val="000000"/>
              </a:solidFill>
              <a:latin typeface="Arial"/>
            </a:endParaRPr>
          </a:p>
        </p:txBody>
      </p:sp>
      <p:sp>
        <p:nvSpPr>
          <p:cNvPr id="80" name=""/>
          <p:cNvSpPr/>
          <p:nvPr/>
        </p:nvSpPr>
        <p:spPr>
          <a:xfrm>
            <a:off x="6246360" y="3440160"/>
            <a:ext cx="1143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0A53B1B-2EAC-450D-9002-091042C17F2D}" type="slidenum">
              <a:t>6</a:t>
            </a:fld>
          </a:p>
        </p:txBody>
      </p:sp>
      <p:sp>
        <p:nvSpPr>
          <p:cNvPr id="4" name="PlaceHolder 3"/>
          <p:cNvSpPr>
            <a:spLocks noGrp="1"/>
          </p:cNvSpPr>
          <p:nvPr>
            <p:ph type="dt" idx="1"/>
          </p:nvPr>
        </p:nvSpPr>
        <p:spPr/>
        <p:txBody>
          <a:bodyPr/>
          <a:p>
            <a:fld id="{E1DC18B7-77B0-46C1-84F3-7AC1EBDE23AD}"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195280" y="274320"/>
            <a:ext cx="64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dwidth and Spectrum</a:t>
            </a:r>
            <a:endParaRPr b="0" lang="en-US" sz="4400" spc="-1" strike="noStrike">
              <a:solidFill>
                <a:srgbClr val="000000"/>
              </a:solidFill>
              <a:latin typeface="Arial"/>
            </a:endParaRPr>
          </a:p>
        </p:txBody>
      </p:sp>
      <p:sp>
        <p:nvSpPr>
          <p:cNvPr id="82" name=""/>
          <p:cNvSpPr txBox="1"/>
          <p:nvPr/>
        </p:nvSpPr>
        <p:spPr>
          <a:xfrm>
            <a:off x="4648320" y="1600200"/>
            <a:ext cx="4495680" cy="1828800"/>
          </a:xfrm>
          <a:prstGeom prst="rect">
            <a:avLst/>
          </a:prstGeom>
          <a:noFill/>
          <a:ln w="0">
            <a:noFill/>
          </a:ln>
        </p:spPr>
        <p:txBody>
          <a:bodyPr lIns="90000" rIns="90000" tIns="46800" bIns="46800"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 Maximum possible transmission </a:t>
            </a:r>
            <a:br>
              <a:rPr sz="1600"/>
            </a:br>
            <a:r>
              <a:rPr b="0" lang="en-US" sz="1600" spc="-1" strike="noStrike">
                <a:solidFill>
                  <a:srgbClr val="000000"/>
                </a:solidFill>
                <a:latin typeface="Arial"/>
              </a:rPr>
              <a:t>  speed in the channel (bps)</a:t>
            </a:r>
            <a:endParaRPr b="0" lang="en-US" sz="16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 Bandwidth (Hz) </a:t>
            </a:r>
            <a:endParaRPr b="0" lang="en-US" sz="16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 = Signal-to-Noise Rati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2"/>
          <p:cNvSpPr>
            <a:spLocks noGrp="1"/>
          </p:cNvSpPr>
          <p:nvPr>
            <p:ph/>
          </p:nvPr>
        </p:nvSpPr>
        <p:spPr>
          <a:xfrm>
            <a:off x="-360" y="1773360"/>
            <a:ext cx="8459640" cy="475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hannon equ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B Log</a:t>
            </a:r>
            <a:r>
              <a:rPr b="0" lang="en-US" sz="3200" spc="-1" strike="noStrike" baseline="-25000">
                <a:solidFill>
                  <a:srgbClr val="000000"/>
                </a:solidFill>
                <a:latin typeface="Arial"/>
              </a:rPr>
              <a:t>2</a:t>
            </a:r>
            <a:r>
              <a:rPr b="0" lang="en-US" sz="2800" spc="-1" strike="noStrike">
                <a:solidFill>
                  <a:srgbClr val="000000"/>
                </a:solidFill>
                <a:latin typeface="Arial"/>
              </a:rPr>
              <a:t> (1+S/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igher B higher 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mmercial mobile services operate in the “Golden Z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igh MHz to Low GHz ran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mount of frequency spectrum is limi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 Spread spectrum transmission</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57220A9-9254-4860-8FAC-0CA537383224}" type="slidenum">
              <a:t>7</a:t>
            </a:fld>
          </a:p>
        </p:txBody>
      </p:sp>
      <p:sp>
        <p:nvSpPr>
          <p:cNvPr id="5" name="PlaceHolder 4"/>
          <p:cNvSpPr>
            <a:spLocks noGrp="1"/>
          </p:cNvSpPr>
          <p:nvPr>
            <p:ph type="dt" idx="1"/>
          </p:nvPr>
        </p:nvSpPr>
        <p:spPr/>
        <p:txBody>
          <a:bodyPr/>
          <a:p>
            <a:fld id="{BC306E6B-6E00-4EBF-8316-8427BB8AE938}"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195280" y="274320"/>
            <a:ext cx="64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LAN Component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NIC (WN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Points (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ennae </a:t>
            </a:r>
            <a:endParaRPr b="0" lang="en-US" sz="3200" spc="-1" strike="noStrike">
              <a:solidFill>
                <a:srgbClr val="000000"/>
              </a:solidFill>
              <a:latin typeface="Arial"/>
            </a:endParaRPr>
          </a:p>
        </p:txBody>
      </p:sp>
      <p:pic>
        <p:nvPicPr>
          <p:cNvPr id="86" name="" descr=""/>
          <p:cNvPicPr/>
          <p:nvPr/>
        </p:nvPicPr>
        <p:blipFill>
          <a:blip r:embed="rId2"/>
          <a:stretch/>
        </p:blipFill>
        <p:spPr>
          <a:xfrm>
            <a:off x="3132000" y="3633840"/>
            <a:ext cx="6012000" cy="3224160"/>
          </a:xfrm>
          <a:prstGeom prst="rect">
            <a:avLst/>
          </a:prstGeom>
          <a:ln w="0">
            <a:noFill/>
          </a:ln>
        </p:spPr>
      </p:pic>
      <p:sp>
        <p:nvSpPr>
          <p:cNvPr id="4" name="PlaceHolder 3"/>
          <p:cNvSpPr>
            <a:spLocks noGrp="1"/>
          </p:cNvSpPr>
          <p:nvPr>
            <p:ph type="sldNum" idx="3"/>
          </p:nvPr>
        </p:nvSpPr>
        <p:spPr/>
        <p:txBody>
          <a:bodyPr/>
          <a:p>
            <a:fld id="{9A069B34-CCC3-4A39-B8F4-44AE912C6BC9}" type="slidenum">
              <a:t>8</a:t>
            </a:fld>
          </a:p>
        </p:txBody>
      </p:sp>
      <p:sp>
        <p:nvSpPr>
          <p:cNvPr id="5" name="PlaceHolder 4"/>
          <p:cNvSpPr>
            <a:spLocks noGrp="1"/>
          </p:cNvSpPr>
          <p:nvPr>
            <p:ph type="dt" idx="1"/>
          </p:nvPr>
        </p:nvSpPr>
        <p:spPr/>
        <p:txBody>
          <a:bodyPr/>
          <a:p>
            <a:fld id="{6542E5DC-C17D-4785-A1DB-A0CA5ECB4C45}"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2743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EEE 802.11 architecture</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asic Service Set (BS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dependent BSS (IBSS) does not use access poi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BSS known as Ad-Hoc Network (peer-to-peer communi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n BSS are connected to the network  becomes one with infraestuc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rconnected using a Distribution System through the access points (AP)</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 descr=""/>
          <p:cNvPicPr/>
          <p:nvPr/>
        </p:nvPicPr>
        <p:blipFill>
          <a:blip r:embed="rId2"/>
          <a:stretch/>
        </p:blipFill>
        <p:spPr>
          <a:xfrm>
            <a:off x="900000" y="4098960"/>
            <a:ext cx="8028000" cy="2548080"/>
          </a:xfrm>
          <a:prstGeom prst="rect">
            <a:avLst/>
          </a:prstGeom>
          <a:ln w="0">
            <a:noFill/>
          </a:ln>
        </p:spPr>
      </p:pic>
      <p:sp>
        <p:nvSpPr>
          <p:cNvPr id="4" name="PlaceHolder 3"/>
          <p:cNvSpPr>
            <a:spLocks noGrp="1"/>
          </p:cNvSpPr>
          <p:nvPr>
            <p:ph type="sldNum" idx="3"/>
          </p:nvPr>
        </p:nvSpPr>
        <p:spPr/>
        <p:txBody>
          <a:bodyPr/>
          <a:p>
            <a:fld id="{E0C97BFC-DF52-4C84-A4C0-EB7A0260167A}" type="slidenum">
              <a:t>9</a:t>
            </a:fld>
          </a:p>
        </p:txBody>
      </p:sp>
      <p:sp>
        <p:nvSpPr>
          <p:cNvPr id="5" name="PlaceHolder 4"/>
          <p:cNvSpPr>
            <a:spLocks noGrp="1"/>
          </p:cNvSpPr>
          <p:nvPr>
            <p:ph type="dt" idx="1"/>
          </p:nvPr>
        </p:nvSpPr>
        <p:spPr/>
        <p:txBody>
          <a:bodyPr/>
          <a:p>
            <a:fld id="{F6172901-F192-471D-90C3-9BCDE0D2659E}"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22:28:50Z</dcterms:created>
  <dc:creator>Ronaldo Amarö</dc:creator>
  <dc:description/>
  <dc:language>en-US</dc:language>
  <cp:lastModifiedBy>Chris McKeague</cp:lastModifiedBy>
  <dcterms:modified xsi:type="dcterms:W3CDTF">2006-05-10T03:54:48Z</dcterms:modified>
  <cp:revision>58</cp:revision>
  <dc:subject/>
  <dc:title>Slide 1</dc:title>
</cp:coreProperties>
</file>